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B76-0166-48E1-9C0E-9F3F4BCB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834-2C3A-4A7D-9991-5ACBFC73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43B-73FF-45CA-AE1B-17F6F3F3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352-BD7B-4F6C-BE00-1EEDEAC4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3D4-3AF6-45AB-B539-2BA2DCCD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FEF-D94D-4199-88A2-20F474E9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247-7B3B-4693-87AE-3033C0FF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6B9-6224-45B0-882E-BC7264C0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9A5-20C0-4197-8EB6-81653FC3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927-813C-4B1B-9B48-6667694D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03E-7819-4F21-A1DA-292FF6A6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192-B86B-4101-B421-D710508C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32CA-6343-4B49-9345-6B6DA7807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2 Function Tables Day 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function table with a given dom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omain (2, 4, and 6) to make function tables for the following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:  y = x 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36640" y="4419720"/>
          <a:ext cx="5668920" cy="1879560"/>
        </p:xfrm>
        <a:graphic>
          <a:graphicData uri="http://schemas.openxmlformats.org/drawingml/2006/table">
            <a:tbl>
              <a:tblPr/>
              <a:tblGrid>
                <a:gridCol w="1417680"/>
                <a:gridCol w="1417320"/>
                <a:gridCol w="1416240"/>
                <a:gridCol w="141768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3589200" y="4653000"/>
            <a:ext cx="420840" cy="455400"/>
          </a:xfrm>
          <a:custGeom>
            <a:avLst/>
            <a:gdLst/>
            <a:ahLst/>
            <a:rect l="l" t="t" r="r" b="b"/>
            <a:pathLst>
              <a:path w="1167" h="1266">
                <a:moveTo>
                  <a:pt x="10220" y="13196"/>
                </a:moveTo>
                <a:cubicBezTo>
                  <a:pt x="10267" y="13039"/>
                  <a:pt x="10374" y="12959"/>
                  <a:pt x="10542" y="12923"/>
                </a:cubicBezTo>
                <a:cubicBezTo>
                  <a:pt x="10638" y="12923"/>
                  <a:pt x="10669" y="12921"/>
                  <a:pt x="10716" y="12973"/>
                </a:cubicBezTo>
                <a:cubicBezTo>
                  <a:pt x="10700" y="13277"/>
                  <a:pt x="10587" y="13428"/>
                  <a:pt x="10393" y="13667"/>
                </a:cubicBezTo>
                <a:cubicBezTo>
                  <a:pt x="10260" y="13831"/>
                  <a:pt x="10116" y="13986"/>
                  <a:pt x="9971" y="14139"/>
                </a:cubicBezTo>
                <a:cubicBezTo>
                  <a:pt x="10010" y="14235"/>
                  <a:pt x="10218" y="13933"/>
                  <a:pt x="10319" y="13866"/>
                </a:cubicBezTo>
                <a:cubicBezTo>
                  <a:pt x="10543" y="13718"/>
                  <a:pt x="10554" y="13808"/>
                  <a:pt x="10691" y="13965"/>
                </a:cubicBezTo>
                <a:cubicBezTo>
                  <a:pt x="10829" y="14124"/>
                  <a:pt x="10986" y="13994"/>
                  <a:pt x="11137" y="139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83000" y="5562720"/>
            <a:ext cx="500040" cy="349200"/>
          </a:xfrm>
          <a:custGeom>
            <a:avLst/>
            <a:gdLst/>
            <a:ahLst/>
            <a:rect l="l" t="t" r="r" b="b"/>
            <a:pathLst>
              <a:path w="1390" h="969">
                <a:moveTo>
                  <a:pt x="9674" y="15949"/>
                </a:moveTo>
                <a:cubicBezTo>
                  <a:pt x="9851" y="15943"/>
                  <a:pt x="10020" y="15916"/>
                  <a:pt x="10195" y="15900"/>
                </a:cubicBezTo>
              </a:path>
              <a:path w="1390" h="969">
                <a:moveTo>
                  <a:pt x="10964" y="15453"/>
                </a:moveTo>
                <a:cubicBezTo>
                  <a:pt x="10786" y="15498"/>
                  <a:pt x="10647" y="15523"/>
                  <a:pt x="10468" y="15478"/>
                </a:cubicBezTo>
                <a:cubicBezTo>
                  <a:pt x="10468" y="15560"/>
                  <a:pt x="10418" y="15818"/>
                  <a:pt x="10492" y="15875"/>
                </a:cubicBezTo>
                <a:cubicBezTo>
                  <a:pt x="10546" y="15917"/>
                  <a:pt x="10794" y="15822"/>
                  <a:pt x="10889" y="15850"/>
                </a:cubicBezTo>
                <a:cubicBezTo>
                  <a:pt x="11034" y="15893"/>
                  <a:pt x="11109" y="16114"/>
                  <a:pt x="11038" y="16247"/>
                </a:cubicBezTo>
                <a:cubicBezTo>
                  <a:pt x="10946" y="16421"/>
                  <a:pt x="10705" y="16436"/>
                  <a:pt x="10542" y="16396"/>
                </a:cubicBezTo>
                <a:cubicBezTo>
                  <a:pt x="10453" y="16374"/>
                  <a:pt x="10321" y="16312"/>
                  <a:pt x="10443" y="1627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4768920"/>
            <a:ext cx="250920" cy="401400"/>
          </a:xfrm>
          <a:custGeom>
            <a:avLst/>
            <a:gdLst/>
            <a:ahLst/>
            <a:rect l="l" t="t" r="r" b="b"/>
            <a:pathLst>
              <a:path w="696" h="1117">
                <a:moveTo>
                  <a:pt x="6350" y="13320"/>
                </a:moveTo>
                <a:cubicBezTo>
                  <a:pt x="6515" y="13585"/>
                  <a:pt x="6703" y="13820"/>
                  <a:pt x="6896" y="14064"/>
                </a:cubicBezTo>
                <a:cubicBezTo>
                  <a:pt x="6957" y="14142"/>
                  <a:pt x="7000" y="14185"/>
                  <a:pt x="7045" y="14263"/>
                </a:cubicBezTo>
              </a:path>
              <a:path w="696" h="1117">
                <a:moveTo>
                  <a:pt x="6995" y="13246"/>
                </a:moveTo>
                <a:cubicBezTo>
                  <a:pt x="6872" y="13482"/>
                  <a:pt x="6775" y="13729"/>
                  <a:pt x="6648" y="13965"/>
                </a:cubicBezTo>
                <a:cubicBezTo>
                  <a:pt x="6584" y="14084"/>
                  <a:pt x="6466" y="14208"/>
                  <a:pt x="6424" y="14312"/>
                </a:cubicBezTo>
                <a:cubicBezTo>
                  <a:pt x="6416" y="14329"/>
                  <a:pt x="6408" y="14345"/>
                  <a:pt x="6400" y="1436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13000" y="5680080"/>
            <a:ext cx="204840" cy="490680"/>
          </a:xfrm>
          <a:custGeom>
            <a:avLst/>
            <a:gdLst/>
            <a:ahLst/>
            <a:rect l="l" t="t" r="r" b="b"/>
            <a:pathLst>
              <a:path w="572" h="1365">
                <a:moveTo>
                  <a:pt x="6424" y="15900"/>
                </a:moveTo>
                <a:cubicBezTo>
                  <a:pt x="6539" y="16086"/>
                  <a:pt x="6741" y="16208"/>
                  <a:pt x="6896" y="16371"/>
                </a:cubicBezTo>
                <a:cubicBezTo>
                  <a:pt x="6921" y="16404"/>
                  <a:pt x="6945" y="16437"/>
                  <a:pt x="6970" y="16470"/>
                </a:cubicBezTo>
              </a:path>
              <a:path w="572" h="1365">
                <a:moveTo>
                  <a:pt x="6995" y="15776"/>
                </a:moveTo>
                <a:cubicBezTo>
                  <a:pt x="6995" y="16039"/>
                  <a:pt x="6936" y="16283"/>
                  <a:pt x="6921" y="16545"/>
                </a:cubicBezTo>
                <a:cubicBezTo>
                  <a:pt x="6910" y="16740"/>
                  <a:pt x="6935" y="16924"/>
                  <a:pt x="6945" y="17115"/>
                </a:cubicBezTo>
                <a:cubicBezTo>
                  <a:pt x="6945" y="17123"/>
                  <a:pt x="6945" y="17132"/>
                  <a:pt x="6945" y="171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2040" y="4660920"/>
            <a:ext cx="250920" cy="384120"/>
          </a:xfrm>
          <a:custGeom>
            <a:avLst/>
            <a:gdLst/>
            <a:ahLst/>
            <a:rect l="l" t="t" r="r" b="b"/>
            <a:pathLst>
              <a:path w="696" h="1068">
                <a:moveTo>
                  <a:pt x="14163" y="12998"/>
                </a:moveTo>
                <a:cubicBezTo>
                  <a:pt x="14185" y="13186"/>
                  <a:pt x="14183" y="13355"/>
                  <a:pt x="14163" y="13543"/>
                </a:cubicBezTo>
                <a:cubicBezTo>
                  <a:pt x="14038" y="13598"/>
                  <a:pt x="14113" y="13458"/>
                  <a:pt x="14288" y="13494"/>
                </a:cubicBezTo>
                <a:cubicBezTo>
                  <a:pt x="14438" y="13525"/>
                  <a:pt x="14586" y="13579"/>
                  <a:pt x="14734" y="13618"/>
                </a:cubicBezTo>
                <a:cubicBezTo>
                  <a:pt x="14825" y="13437"/>
                  <a:pt x="14749" y="13244"/>
                  <a:pt x="14734" y="13047"/>
                </a:cubicBezTo>
                <a:cubicBezTo>
                  <a:pt x="14734" y="13014"/>
                  <a:pt x="14734" y="12981"/>
                  <a:pt x="14734" y="12948"/>
                </a:cubicBezTo>
                <a:cubicBezTo>
                  <a:pt x="14708" y="13232"/>
                  <a:pt x="14755" y="13526"/>
                  <a:pt x="14759" y="13816"/>
                </a:cubicBezTo>
                <a:cubicBezTo>
                  <a:pt x="14759" y="13932"/>
                  <a:pt x="14759" y="13949"/>
                  <a:pt x="14759" y="140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02120" y="5680080"/>
            <a:ext cx="492120" cy="285840"/>
          </a:xfrm>
          <a:custGeom>
            <a:avLst/>
            <a:gdLst/>
            <a:ahLst/>
            <a:rect l="l" t="t" r="r" b="b"/>
            <a:pathLst>
              <a:path w="1365" h="795">
                <a:moveTo>
                  <a:pt x="13618" y="16371"/>
                </a:moveTo>
                <a:cubicBezTo>
                  <a:pt x="13769" y="16388"/>
                  <a:pt x="13911" y="16396"/>
                  <a:pt x="14064" y="16396"/>
                </a:cubicBezTo>
              </a:path>
              <a:path w="1365" h="795">
                <a:moveTo>
                  <a:pt x="14461" y="15900"/>
                </a:moveTo>
                <a:cubicBezTo>
                  <a:pt x="14532" y="15851"/>
                  <a:pt x="14713" y="15687"/>
                  <a:pt x="14808" y="15801"/>
                </a:cubicBezTo>
                <a:cubicBezTo>
                  <a:pt x="14920" y="15935"/>
                  <a:pt x="14697" y="16031"/>
                  <a:pt x="14610" y="16073"/>
                </a:cubicBezTo>
                <a:cubicBezTo>
                  <a:pt x="14717" y="16025"/>
                  <a:pt x="14947" y="16043"/>
                  <a:pt x="14982" y="16222"/>
                </a:cubicBezTo>
                <a:cubicBezTo>
                  <a:pt x="15026" y="16446"/>
                  <a:pt x="14746" y="16594"/>
                  <a:pt x="14560" y="16570"/>
                </a:cubicBezTo>
                <a:cubicBezTo>
                  <a:pt x="14497" y="16527"/>
                  <a:pt x="14459" y="16511"/>
                  <a:pt x="14536" y="165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9040" y="4670280"/>
            <a:ext cx="366840" cy="393840"/>
          </a:xfrm>
          <a:custGeom>
            <a:avLst/>
            <a:gdLst/>
            <a:ahLst/>
            <a:rect l="l" t="t" r="r" b="b"/>
            <a:pathLst>
              <a:path w="1018" h="1092">
                <a:moveTo>
                  <a:pt x="17462" y="12973"/>
                </a:moveTo>
                <a:cubicBezTo>
                  <a:pt x="17485" y="13202"/>
                  <a:pt x="17409" y="13413"/>
                  <a:pt x="17413" y="13643"/>
                </a:cubicBezTo>
                <a:cubicBezTo>
                  <a:pt x="17417" y="13921"/>
                  <a:pt x="17538" y="14080"/>
                  <a:pt x="17835" y="14064"/>
                </a:cubicBezTo>
                <a:cubicBezTo>
                  <a:pt x="18011" y="14054"/>
                  <a:pt x="18306" y="13925"/>
                  <a:pt x="18405" y="13767"/>
                </a:cubicBezTo>
                <a:cubicBezTo>
                  <a:pt x="18517" y="13588"/>
                  <a:pt x="18281" y="13439"/>
                  <a:pt x="18132" y="13543"/>
                </a:cubicBezTo>
                <a:cubicBezTo>
                  <a:pt x="17978" y="13650"/>
                  <a:pt x="17976" y="13875"/>
                  <a:pt x="18033" y="14039"/>
                </a:cubicBezTo>
                <a:cubicBezTo>
                  <a:pt x="18041" y="14047"/>
                  <a:pt x="18050" y="14056"/>
                  <a:pt x="18058" y="140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57960" y="5715000"/>
            <a:ext cx="357120" cy="339840"/>
          </a:xfrm>
          <a:custGeom>
            <a:avLst/>
            <a:gdLst/>
            <a:ahLst/>
            <a:rect l="l" t="t" r="r" b="b"/>
            <a:pathLst>
              <a:path w="993" h="944">
                <a:moveTo>
                  <a:pt x="17711" y="16297"/>
                </a:moveTo>
                <a:cubicBezTo>
                  <a:pt x="17642" y="16384"/>
                  <a:pt x="17902" y="16383"/>
                  <a:pt x="18008" y="16371"/>
                </a:cubicBezTo>
                <a:cubicBezTo>
                  <a:pt x="18033" y="16363"/>
                  <a:pt x="18058" y="16354"/>
                  <a:pt x="18083" y="16346"/>
                </a:cubicBezTo>
              </a:path>
              <a:path w="993" h="944">
                <a:moveTo>
                  <a:pt x="18554" y="15875"/>
                </a:moveTo>
                <a:cubicBezTo>
                  <a:pt x="18602" y="16080"/>
                  <a:pt x="18576" y="16306"/>
                  <a:pt x="18604" y="16520"/>
                </a:cubicBezTo>
                <a:cubicBezTo>
                  <a:pt x="18617" y="16621"/>
                  <a:pt x="18643" y="16718"/>
                  <a:pt x="18653" y="1681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ccurate complete a function table with a two-ope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eviously you had to figure out the rule as well as the missing inputs or outputs.  With a two-operation function, you simply need to find the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3200400"/>
          <a:ext cx="2286000" cy="29462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576600" y="277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81280" y="3200400"/>
          <a:ext cx="1981440" cy="289548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</a:tblGrid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946840" y="288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5880" y="3429000"/>
          <a:ext cx="1752840" cy="2565360"/>
        </p:xfrm>
        <a:graphic>
          <a:graphicData uri="http://schemas.openxmlformats.org/drawingml/2006/table">
            <a:tbl>
              <a:tblPr/>
              <a:tblGrid>
                <a:gridCol w="876600"/>
                <a:gridCol w="87624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1192320" y="2657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9000" y="255744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3x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73600" y="250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240" y="26668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(s - 4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2643120"/>
            <a:ext cx="74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9240" y="28195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4a 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89040" y="2919240"/>
            <a:ext cx="331920" cy="26856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4638" y="8855"/>
                </a:moveTo>
                <a:lnTo>
                  <a:pt x="4638" y="8855"/>
                </a:lnTo>
              </a:path>
              <a:path w="919" h="745">
                <a:moveTo>
                  <a:pt x="4415" y="8161"/>
                </a:moveTo>
                <a:cubicBezTo>
                  <a:pt x="4487" y="8107"/>
                  <a:pt x="4501" y="8111"/>
                  <a:pt x="4589" y="8111"/>
                </a:cubicBezTo>
                <a:cubicBezTo>
                  <a:pt x="4678" y="8111"/>
                  <a:pt x="4762" y="8125"/>
                  <a:pt x="4837" y="8136"/>
                </a:cubicBezTo>
                <a:cubicBezTo>
                  <a:pt x="4994" y="8160"/>
                  <a:pt x="5174" y="8136"/>
                  <a:pt x="5333" y="81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81160" y="3946680"/>
            <a:ext cx="1027080" cy="2233440"/>
          </a:xfrm>
          <a:custGeom>
            <a:avLst/>
            <a:gdLst/>
            <a:ahLst/>
            <a:rect l="l" t="t" r="r" b="b"/>
            <a:pathLst>
              <a:path w="2854" h="6202">
                <a:moveTo>
                  <a:pt x="5854" y="11137"/>
                </a:moveTo>
                <a:cubicBezTo>
                  <a:pt x="5892" y="11112"/>
                  <a:pt x="6087" y="10965"/>
                  <a:pt x="6152" y="11038"/>
                </a:cubicBezTo>
                <a:cubicBezTo>
                  <a:pt x="6219" y="11113"/>
                  <a:pt x="6140" y="11199"/>
                  <a:pt x="6077" y="11237"/>
                </a:cubicBezTo>
                <a:cubicBezTo>
                  <a:pt x="6004" y="11273"/>
                  <a:pt x="5999" y="11290"/>
                  <a:pt x="5953" y="11286"/>
                </a:cubicBezTo>
                <a:cubicBezTo>
                  <a:pt x="6001" y="11265"/>
                  <a:pt x="6132" y="11223"/>
                  <a:pt x="6176" y="11286"/>
                </a:cubicBezTo>
                <a:cubicBezTo>
                  <a:pt x="6244" y="11384"/>
                  <a:pt x="6212" y="11520"/>
                  <a:pt x="6077" y="11559"/>
                </a:cubicBezTo>
                <a:cubicBezTo>
                  <a:pt x="5965" y="11591"/>
                  <a:pt x="5906" y="11544"/>
                  <a:pt x="5829" y="11485"/>
                </a:cubicBezTo>
              </a:path>
              <a:path w="2854" h="6202">
                <a:moveTo>
                  <a:pt x="6573" y="10988"/>
                </a:moveTo>
                <a:cubicBezTo>
                  <a:pt x="6434" y="10989"/>
                  <a:pt x="6439" y="11080"/>
                  <a:pt x="6400" y="11212"/>
                </a:cubicBezTo>
                <a:cubicBezTo>
                  <a:pt x="6363" y="11337"/>
                  <a:pt x="6379" y="11435"/>
                  <a:pt x="6400" y="11559"/>
                </a:cubicBezTo>
                <a:cubicBezTo>
                  <a:pt x="6412" y="11630"/>
                  <a:pt x="6473" y="11644"/>
                  <a:pt x="6524" y="11683"/>
                </a:cubicBezTo>
                <a:cubicBezTo>
                  <a:pt x="6532" y="11691"/>
                  <a:pt x="6540" y="11700"/>
                  <a:pt x="6548" y="11708"/>
                </a:cubicBezTo>
              </a:path>
              <a:path w="2854" h="6202">
                <a:moveTo>
                  <a:pt x="6921" y="11112"/>
                </a:moveTo>
                <a:cubicBezTo>
                  <a:pt x="6854" y="11112"/>
                  <a:pt x="6809" y="11098"/>
                  <a:pt x="6747" y="11088"/>
                </a:cubicBezTo>
                <a:cubicBezTo>
                  <a:pt x="6730" y="11088"/>
                  <a:pt x="6714" y="11088"/>
                  <a:pt x="6697" y="11088"/>
                </a:cubicBezTo>
                <a:cubicBezTo>
                  <a:pt x="6672" y="11162"/>
                  <a:pt x="6648" y="11237"/>
                  <a:pt x="6623" y="11311"/>
                </a:cubicBezTo>
                <a:cubicBezTo>
                  <a:pt x="6691" y="11303"/>
                  <a:pt x="6803" y="11246"/>
                  <a:pt x="6871" y="11261"/>
                </a:cubicBezTo>
                <a:cubicBezTo>
                  <a:pt x="6941" y="11277"/>
                  <a:pt x="6989" y="11395"/>
                  <a:pt x="6970" y="11460"/>
                </a:cubicBezTo>
                <a:cubicBezTo>
                  <a:pt x="6956" y="11510"/>
                  <a:pt x="6844" y="11556"/>
                  <a:pt x="6796" y="11559"/>
                </a:cubicBezTo>
                <a:cubicBezTo>
                  <a:pt x="6780" y="11559"/>
                  <a:pt x="6763" y="11559"/>
                  <a:pt x="6747" y="11559"/>
                </a:cubicBezTo>
              </a:path>
              <a:path w="2854" h="6202">
                <a:moveTo>
                  <a:pt x="7069" y="10988"/>
                </a:moveTo>
                <a:cubicBezTo>
                  <a:pt x="7189" y="11033"/>
                  <a:pt x="7234" y="11130"/>
                  <a:pt x="7268" y="11261"/>
                </a:cubicBezTo>
                <a:cubicBezTo>
                  <a:pt x="7305" y="11404"/>
                  <a:pt x="7321" y="11541"/>
                  <a:pt x="7193" y="11633"/>
                </a:cubicBezTo>
                <a:cubicBezTo>
                  <a:pt x="7150" y="11655"/>
                  <a:pt x="7138" y="11659"/>
                  <a:pt x="7119" y="11683"/>
                </a:cubicBezTo>
              </a:path>
              <a:path w="2854" h="6202">
                <a:moveTo>
                  <a:pt x="7665" y="11137"/>
                </a:moveTo>
                <a:cubicBezTo>
                  <a:pt x="7655" y="11246"/>
                  <a:pt x="7626" y="11352"/>
                  <a:pt x="7615" y="11460"/>
                </a:cubicBezTo>
              </a:path>
              <a:path w="2854" h="6202">
                <a:moveTo>
                  <a:pt x="7541" y="11286"/>
                </a:moveTo>
                <a:cubicBezTo>
                  <a:pt x="7632" y="11251"/>
                  <a:pt x="7739" y="11231"/>
                  <a:pt x="7838" y="11212"/>
                </a:cubicBezTo>
                <a:cubicBezTo>
                  <a:pt x="7846" y="11212"/>
                  <a:pt x="7855" y="11212"/>
                  <a:pt x="7863" y="11212"/>
                </a:cubicBezTo>
              </a:path>
              <a:path w="2854" h="6202">
                <a:moveTo>
                  <a:pt x="8111" y="11137"/>
                </a:moveTo>
                <a:cubicBezTo>
                  <a:pt x="8165" y="11052"/>
                  <a:pt x="8221" y="11013"/>
                  <a:pt x="8310" y="10964"/>
                </a:cubicBezTo>
                <a:cubicBezTo>
                  <a:pt x="8419" y="11123"/>
                  <a:pt x="8395" y="11081"/>
                  <a:pt x="8260" y="11187"/>
                </a:cubicBezTo>
                <a:cubicBezTo>
                  <a:pt x="8166" y="11261"/>
                  <a:pt x="8096" y="11314"/>
                  <a:pt x="8037" y="11410"/>
                </a:cubicBezTo>
                <a:cubicBezTo>
                  <a:pt x="7996" y="11476"/>
                  <a:pt x="7975" y="11509"/>
                  <a:pt x="7962" y="11584"/>
                </a:cubicBezTo>
                <a:cubicBezTo>
                  <a:pt x="8013" y="11538"/>
                  <a:pt x="8104" y="11415"/>
                  <a:pt x="8186" y="11435"/>
                </a:cubicBezTo>
                <a:cubicBezTo>
                  <a:pt x="8270" y="11455"/>
                  <a:pt x="8289" y="11530"/>
                  <a:pt x="8384" y="11534"/>
                </a:cubicBezTo>
                <a:cubicBezTo>
                  <a:pt x="8409" y="11534"/>
                  <a:pt x="8433" y="11534"/>
                  <a:pt x="8458" y="11534"/>
                </a:cubicBezTo>
              </a:path>
              <a:path w="2854" h="6202">
                <a:moveTo>
                  <a:pt x="6201" y="11807"/>
                </a:moveTo>
                <a:cubicBezTo>
                  <a:pt x="6218" y="11912"/>
                  <a:pt x="6226" y="11999"/>
                  <a:pt x="6226" y="12105"/>
                </a:cubicBezTo>
              </a:path>
              <a:path w="2854" h="6202">
                <a:moveTo>
                  <a:pt x="6648" y="11708"/>
                </a:moveTo>
                <a:cubicBezTo>
                  <a:pt x="6606" y="11719"/>
                  <a:pt x="6448" y="11733"/>
                  <a:pt x="6424" y="11782"/>
                </a:cubicBezTo>
                <a:cubicBezTo>
                  <a:pt x="6402" y="11849"/>
                  <a:pt x="6398" y="11867"/>
                  <a:pt x="6375" y="11906"/>
                </a:cubicBezTo>
                <a:cubicBezTo>
                  <a:pt x="6485" y="11878"/>
                  <a:pt x="6581" y="11864"/>
                  <a:pt x="6672" y="11956"/>
                </a:cubicBezTo>
                <a:cubicBezTo>
                  <a:pt x="6741" y="12026"/>
                  <a:pt x="6648" y="12069"/>
                  <a:pt x="6598" y="12105"/>
                </a:cubicBezTo>
              </a:path>
              <a:path w="2854" h="6202">
                <a:moveTo>
                  <a:pt x="6995" y="11757"/>
                </a:moveTo>
                <a:cubicBezTo>
                  <a:pt x="7019" y="11845"/>
                  <a:pt x="7037" y="11916"/>
                  <a:pt x="7045" y="12005"/>
                </a:cubicBezTo>
              </a:path>
              <a:path w="2854" h="6202">
                <a:moveTo>
                  <a:pt x="6921" y="11931"/>
                </a:moveTo>
                <a:cubicBezTo>
                  <a:pt x="7003" y="11919"/>
                  <a:pt x="7088" y="11898"/>
                  <a:pt x="7169" y="11881"/>
                </a:cubicBezTo>
              </a:path>
              <a:path w="2854" h="6202">
                <a:moveTo>
                  <a:pt x="7367" y="11733"/>
                </a:moveTo>
                <a:cubicBezTo>
                  <a:pt x="7410" y="11711"/>
                  <a:pt x="7446" y="11692"/>
                  <a:pt x="7491" y="11683"/>
                </a:cubicBezTo>
                <a:cubicBezTo>
                  <a:pt x="7510" y="11817"/>
                  <a:pt x="7504" y="11846"/>
                  <a:pt x="7392" y="11931"/>
                </a:cubicBezTo>
                <a:cubicBezTo>
                  <a:pt x="7482" y="11901"/>
                  <a:pt x="7577" y="11932"/>
                  <a:pt x="7665" y="11906"/>
                </a:cubicBezTo>
                <a:cubicBezTo>
                  <a:pt x="7673" y="11898"/>
                  <a:pt x="7681" y="11889"/>
                  <a:pt x="7689" y="11881"/>
                </a:cubicBezTo>
              </a:path>
              <a:path w="2854" h="6202">
                <a:moveTo>
                  <a:pt x="6722" y="12328"/>
                </a:moveTo>
                <a:cubicBezTo>
                  <a:pt x="6722" y="12510"/>
                  <a:pt x="6722" y="12692"/>
                  <a:pt x="6722" y="12874"/>
                </a:cubicBezTo>
              </a:path>
              <a:path w="2854" h="6202">
                <a:moveTo>
                  <a:pt x="6970" y="12328"/>
                </a:moveTo>
                <a:cubicBezTo>
                  <a:pt x="7123" y="12297"/>
                  <a:pt x="7288" y="12310"/>
                  <a:pt x="7441" y="12278"/>
                </a:cubicBezTo>
                <a:cubicBezTo>
                  <a:pt x="7458" y="12270"/>
                  <a:pt x="7474" y="12262"/>
                  <a:pt x="7491" y="12254"/>
                </a:cubicBezTo>
                <a:cubicBezTo>
                  <a:pt x="7466" y="12448"/>
                  <a:pt x="7401" y="12628"/>
                  <a:pt x="7367" y="12824"/>
                </a:cubicBezTo>
                <a:cubicBezTo>
                  <a:pt x="7367" y="12832"/>
                  <a:pt x="7367" y="12841"/>
                  <a:pt x="7367" y="12849"/>
                </a:cubicBezTo>
              </a:path>
              <a:path w="2854" h="6202">
                <a:moveTo>
                  <a:pt x="5904" y="13072"/>
                </a:moveTo>
                <a:cubicBezTo>
                  <a:pt x="5949" y="13054"/>
                  <a:pt x="5968" y="13065"/>
                  <a:pt x="6028" y="13072"/>
                </a:cubicBezTo>
                <a:cubicBezTo>
                  <a:pt x="6007" y="13144"/>
                  <a:pt x="5963" y="13183"/>
                  <a:pt x="5879" y="13196"/>
                </a:cubicBezTo>
                <a:cubicBezTo>
                  <a:pt x="5871" y="13196"/>
                  <a:pt x="5862" y="13196"/>
                  <a:pt x="5854" y="13196"/>
                </a:cubicBezTo>
                <a:cubicBezTo>
                  <a:pt x="5935" y="13210"/>
                  <a:pt x="6021" y="13231"/>
                  <a:pt x="6052" y="13320"/>
                </a:cubicBezTo>
                <a:cubicBezTo>
                  <a:pt x="6092" y="13434"/>
                  <a:pt x="5940" y="13419"/>
                  <a:pt x="5879" y="13419"/>
                </a:cubicBezTo>
                <a:cubicBezTo>
                  <a:pt x="5871" y="13419"/>
                  <a:pt x="5862" y="13419"/>
                  <a:pt x="5854" y="13419"/>
                </a:cubicBezTo>
              </a:path>
              <a:path w="2854" h="6202">
                <a:moveTo>
                  <a:pt x="6375" y="13022"/>
                </a:moveTo>
                <a:cubicBezTo>
                  <a:pt x="6234" y="13088"/>
                  <a:pt x="6127" y="13187"/>
                  <a:pt x="6127" y="13370"/>
                </a:cubicBezTo>
                <a:cubicBezTo>
                  <a:pt x="6127" y="13487"/>
                  <a:pt x="6169" y="13557"/>
                  <a:pt x="6251" y="13618"/>
                </a:cubicBezTo>
                <a:cubicBezTo>
                  <a:pt x="6259" y="13626"/>
                  <a:pt x="6268" y="13635"/>
                  <a:pt x="6276" y="13643"/>
                </a:cubicBezTo>
              </a:path>
              <a:path w="2854" h="6202">
                <a:moveTo>
                  <a:pt x="6474" y="13196"/>
                </a:moveTo>
                <a:cubicBezTo>
                  <a:pt x="6409" y="13312"/>
                  <a:pt x="6400" y="13314"/>
                  <a:pt x="6400" y="13444"/>
                </a:cubicBezTo>
              </a:path>
              <a:path w="2854" h="6202">
                <a:moveTo>
                  <a:pt x="6747" y="13221"/>
                </a:moveTo>
                <a:cubicBezTo>
                  <a:pt x="6707" y="13249"/>
                  <a:pt x="6621" y="13330"/>
                  <a:pt x="6672" y="13395"/>
                </a:cubicBezTo>
                <a:cubicBezTo>
                  <a:pt x="6701" y="13432"/>
                  <a:pt x="6879" y="13474"/>
                  <a:pt x="6921" y="13444"/>
                </a:cubicBezTo>
                <a:cubicBezTo>
                  <a:pt x="7046" y="13355"/>
                  <a:pt x="6940" y="13298"/>
                  <a:pt x="6871" y="13271"/>
                </a:cubicBezTo>
                <a:cubicBezTo>
                  <a:pt x="6854" y="13263"/>
                  <a:pt x="6838" y="13254"/>
                  <a:pt x="6821" y="13246"/>
                </a:cubicBezTo>
              </a:path>
              <a:path w="2854" h="6202">
                <a:moveTo>
                  <a:pt x="6921" y="12973"/>
                </a:moveTo>
                <a:cubicBezTo>
                  <a:pt x="7029" y="13000"/>
                  <a:pt x="7139" y="13114"/>
                  <a:pt x="7193" y="13221"/>
                </a:cubicBezTo>
                <a:cubicBezTo>
                  <a:pt x="7236" y="13307"/>
                  <a:pt x="7245" y="13464"/>
                  <a:pt x="7144" y="13519"/>
                </a:cubicBezTo>
                <a:cubicBezTo>
                  <a:pt x="7119" y="13527"/>
                  <a:pt x="7094" y="13535"/>
                  <a:pt x="7069" y="13543"/>
                </a:cubicBezTo>
              </a:path>
              <a:path w="2854" h="6202">
                <a:moveTo>
                  <a:pt x="7491" y="13146"/>
                </a:moveTo>
                <a:cubicBezTo>
                  <a:pt x="7498" y="13231"/>
                  <a:pt x="7509" y="13310"/>
                  <a:pt x="7516" y="13395"/>
                </a:cubicBezTo>
              </a:path>
              <a:path w="2854" h="6202">
                <a:moveTo>
                  <a:pt x="7417" y="13246"/>
                </a:moveTo>
                <a:cubicBezTo>
                  <a:pt x="7500" y="13246"/>
                  <a:pt x="7582" y="13246"/>
                  <a:pt x="7665" y="13246"/>
                </a:cubicBezTo>
              </a:path>
              <a:path w="2854" h="6202">
                <a:moveTo>
                  <a:pt x="7863" y="13146"/>
                </a:moveTo>
                <a:cubicBezTo>
                  <a:pt x="7881" y="13085"/>
                  <a:pt x="7925" y="13033"/>
                  <a:pt x="8012" y="13072"/>
                </a:cubicBezTo>
                <a:cubicBezTo>
                  <a:pt x="8117" y="13120"/>
                  <a:pt x="7961" y="13225"/>
                  <a:pt x="7938" y="13246"/>
                </a:cubicBezTo>
                <a:cubicBezTo>
                  <a:pt x="7879" y="13299"/>
                  <a:pt x="7801" y="13375"/>
                  <a:pt x="7764" y="13444"/>
                </a:cubicBezTo>
                <a:cubicBezTo>
                  <a:pt x="7764" y="13452"/>
                  <a:pt x="7764" y="13461"/>
                  <a:pt x="7764" y="13469"/>
                </a:cubicBezTo>
                <a:cubicBezTo>
                  <a:pt x="7822" y="13410"/>
                  <a:pt x="7874" y="13340"/>
                  <a:pt x="7962" y="13395"/>
                </a:cubicBezTo>
                <a:cubicBezTo>
                  <a:pt x="8038" y="13442"/>
                  <a:pt x="8036" y="13505"/>
                  <a:pt x="8136" y="13444"/>
                </a:cubicBezTo>
                <a:cubicBezTo>
                  <a:pt x="8144" y="13436"/>
                  <a:pt x="8153" y="13427"/>
                  <a:pt x="8161" y="13419"/>
                </a:cubicBezTo>
              </a:path>
              <a:path w="2854" h="6202">
                <a:moveTo>
                  <a:pt x="6152" y="13816"/>
                </a:moveTo>
                <a:cubicBezTo>
                  <a:pt x="6209" y="13816"/>
                  <a:pt x="6356" y="13786"/>
                  <a:pt x="6350" y="13891"/>
                </a:cubicBezTo>
                <a:cubicBezTo>
                  <a:pt x="6322" y="13947"/>
                  <a:pt x="6306" y="13966"/>
                  <a:pt x="6251" y="13965"/>
                </a:cubicBezTo>
                <a:cubicBezTo>
                  <a:pt x="6217" y="13965"/>
                  <a:pt x="6354" y="13960"/>
                  <a:pt x="6375" y="14039"/>
                </a:cubicBezTo>
                <a:cubicBezTo>
                  <a:pt x="6424" y="14219"/>
                  <a:pt x="6209" y="14168"/>
                  <a:pt x="6127" y="14139"/>
                </a:cubicBezTo>
              </a:path>
              <a:path w="2854" h="6202">
                <a:moveTo>
                  <a:pt x="6672" y="13866"/>
                </a:moveTo>
                <a:cubicBezTo>
                  <a:pt x="6595" y="13885"/>
                  <a:pt x="6445" y="13984"/>
                  <a:pt x="6449" y="14089"/>
                </a:cubicBezTo>
                <a:cubicBezTo>
                  <a:pt x="6466" y="14114"/>
                  <a:pt x="6482" y="14138"/>
                  <a:pt x="6499" y="14163"/>
                </a:cubicBezTo>
                <a:cubicBezTo>
                  <a:pt x="6606" y="14147"/>
                  <a:pt x="6819" y="14102"/>
                  <a:pt x="6722" y="13940"/>
                </a:cubicBezTo>
                <a:cubicBezTo>
                  <a:pt x="6697" y="13924"/>
                  <a:pt x="6673" y="13907"/>
                  <a:pt x="6648" y="13891"/>
                </a:cubicBezTo>
              </a:path>
              <a:path w="2854" h="6202">
                <a:moveTo>
                  <a:pt x="7045" y="13791"/>
                </a:moveTo>
                <a:cubicBezTo>
                  <a:pt x="7089" y="13873"/>
                  <a:pt x="7110" y="13921"/>
                  <a:pt x="7119" y="14015"/>
                </a:cubicBezTo>
              </a:path>
              <a:path w="2854" h="6202">
                <a:moveTo>
                  <a:pt x="6945" y="13965"/>
                </a:moveTo>
                <a:cubicBezTo>
                  <a:pt x="7012" y="13965"/>
                  <a:pt x="7062" y="13958"/>
                  <a:pt x="7119" y="13940"/>
                </a:cubicBezTo>
              </a:path>
              <a:path w="2854" h="6202">
                <a:moveTo>
                  <a:pt x="7342" y="13866"/>
                </a:moveTo>
                <a:cubicBezTo>
                  <a:pt x="7403" y="13866"/>
                  <a:pt x="7590" y="13821"/>
                  <a:pt x="7565" y="13940"/>
                </a:cubicBezTo>
                <a:cubicBezTo>
                  <a:pt x="7513" y="14019"/>
                  <a:pt x="7493" y="14048"/>
                  <a:pt x="7441" y="14089"/>
                </a:cubicBezTo>
                <a:cubicBezTo>
                  <a:pt x="7505" y="14089"/>
                  <a:pt x="7553" y="14104"/>
                  <a:pt x="7615" y="14114"/>
                </a:cubicBezTo>
              </a:path>
              <a:path w="2854" h="6202">
                <a:moveTo>
                  <a:pt x="6697" y="14263"/>
                </a:moveTo>
                <a:cubicBezTo>
                  <a:pt x="6836" y="14241"/>
                  <a:pt x="6860" y="14221"/>
                  <a:pt x="6970" y="14288"/>
                </a:cubicBezTo>
                <a:cubicBezTo>
                  <a:pt x="6945" y="14438"/>
                  <a:pt x="6895" y="14477"/>
                  <a:pt x="6747" y="14511"/>
                </a:cubicBezTo>
                <a:cubicBezTo>
                  <a:pt x="6865" y="14466"/>
                  <a:pt x="6955" y="14482"/>
                  <a:pt x="7045" y="14560"/>
                </a:cubicBezTo>
                <a:cubicBezTo>
                  <a:pt x="6985" y="14709"/>
                  <a:pt x="6891" y="14829"/>
                  <a:pt x="6697" y="14784"/>
                </a:cubicBezTo>
                <a:cubicBezTo>
                  <a:pt x="6632" y="14740"/>
                  <a:pt x="6613" y="14734"/>
                  <a:pt x="6598" y="14684"/>
                </a:cubicBezTo>
              </a:path>
              <a:path w="2854" h="6202">
                <a:moveTo>
                  <a:pt x="7243" y="14362"/>
                </a:moveTo>
                <a:cubicBezTo>
                  <a:pt x="7301" y="14304"/>
                  <a:pt x="7344" y="14220"/>
                  <a:pt x="7417" y="14213"/>
                </a:cubicBezTo>
                <a:cubicBezTo>
                  <a:pt x="7526" y="14203"/>
                  <a:pt x="7582" y="14287"/>
                  <a:pt x="7590" y="14387"/>
                </a:cubicBezTo>
                <a:cubicBezTo>
                  <a:pt x="7599" y="14491"/>
                  <a:pt x="7503" y="14583"/>
                  <a:pt x="7417" y="14635"/>
                </a:cubicBezTo>
                <a:cubicBezTo>
                  <a:pt x="7305" y="14703"/>
                  <a:pt x="7252" y="14762"/>
                  <a:pt x="7169" y="14858"/>
                </a:cubicBezTo>
                <a:cubicBezTo>
                  <a:pt x="7168" y="14845"/>
                  <a:pt x="7253" y="14779"/>
                  <a:pt x="7342" y="14734"/>
                </a:cubicBezTo>
                <a:cubicBezTo>
                  <a:pt x="7408" y="14701"/>
                  <a:pt x="7438" y="14755"/>
                  <a:pt x="7491" y="14808"/>
                </a:cubicBezTo>
                <a:cubicBezTo>
                  <a:pt x="7573" y="14890"/>
                  <a:pt x="7622" y="14855"/>
                  <a:pt x="7714" y="14808"/>
                </a:cubicBezTo>
              </a:path>
              <a:path w="2854" h="6202">
                <a:moveTo>
                  <a:pt x="5779" y="15180"/>
                </a:moveTo>
                <a:cubicBezTo>
                  <a:pt x="5826" y="15194"/>
                  <a:pt x="5990" y="15247"/>
                  <a:pt x="5879" y="15329"/>
                </a:cubicBezTo>
                <a:cubicBezTo>
                  <a:pt x="5827" y="15329"/>
                  <a:pt x="5809" y="15330"/>
                  <a:pt x="5779" y="15354"/>
                </a:cubicBezTo>
                <a:cubicBezTo>
                  <a:pt x="5823" y="15354"/>
                  <a:pt x="5999" y="15330"/>
                  <a:pt x="5953" y="15429"/>
                </a:cubicBezTo>
                <a:cubicBezTo>
                  <a:pt x="5918" y="15504"/>
                  <a:pt x="5843" y="15478"/>
                  <a:pt x="5779" y="15478"/>
                </a:cubicBezTo>
              </a:path>
              <a:path w="2854" h="6202">
                <a:moveTo>
                  <a:pt x="6176" y="15106"/>
                </a:moveTo>
                <a:cubicBezTo>
                  <a:pt x="6103" y="15106"/>
                  <a:pt x="6065" y="15134"/>
                  <a:pt x="6028" y="15205"/>
                </a:cubicBezTo>
                <a:cubicBezTo>
                  <a:pt x="5994" y="15270"/>
                  <a:pt x="5965" y="15431"/>
                  <a:pt x="5978" y="15503"/>
                </a:cubicBezTo>
                <a:cubicBezTo>
                  <a:pt x="5989" y="15561"/>
                  <a:pt x="6041" y="15611"/>
                  <a:pt x="6077" y="15652"/>
                </a:cubicBezTo>
              </a:path>
              <a:path w="2854" h="6202">
                <a:moveTo>
                  <a:pt x="6226" y="15280"/>
                </a:moveTo>
                <a:cubicBezTo>
                  <a:pt x="6226" y="15389"/>
                  <a:pt x="6221" y="15416"/>
                  <a:pt x="6251" y="15478"/>
                </a:cubicBezTo>
              </a:path>
              <a:path w="2854" h="6202">
                <a:moveTo>
                  <a:pt x="6499" y="15255"/>
                </a:moveTo>
                <a:cubicBezTo>
                  <a:pt x="6446" y="15302"/>
                  <a:pt x="6314" y="15445"/>
                  <a:pt x="6449" y="15503"/>
                </a:cubicBezTo>
                <a:cubicBezTo>
                  <a:pt x="6539" y="15542"/>
                  <a:pt x="6627" y="15433"/>
                  <a:pt x="6623" y="15354"/>
                </a:cubicBezTo>
                <a:cubicBezTo>
                  <a:pt x="6615" y="15337"/>
                  <a:pt x="6606" y="15321"/>
                  <a:pt x="6598" y="15304"/>
                </a:cubicBezTo>
              </a:path>
              <a:path w="2854" h="6202">
                <a:moveTo>
                  <a:pt x="6796" y="15230"/>
                </a:moveTo>
                <a:cubicBezTo>
                  <a:pt x="6779" y="15295"/>
                  <a:pt x="6758" y="15363"/>
                  <a:pt x="6747" y="15429"/>
                </a:cubicBezTo>
                <a:cubicBezTo>
                  <a:pt x="6854" y="15450"/>
                  <a:pt x="6976" y="15495"/>
                  <a:pt x="6945" y="15329"/>
                </a:cubicBezTo>
                <a:cubicBezTo>
                  <a:pt x="6921" y="15280"/>
                  <a:pt x="6912" y="15263"/>
                  <a:pt x="6871" y="15255"/>
                </a:cubicBezTo>
              </a:path>
              <a:path w="2854" h="6202">
                <a:moveTo>
                  <a:pt x="6921" y="15081"/>
                </a:moveTo>
                <a:cubicBezTo>
                  <a:pt x="6969" y="15204"/>
                  <a:pt x="6991" y="15320"/>
                  <a:pt x="6995" y="15453"/>
                </a:cubicBezTo>
                <a:cubicBezTo>
                  <a:pt x="6995" y="15521"/>
                  <a:pt x="6998" y="15540"/>
                  <a:pt x="6970" y="15577"/>
                </a:cubicBezTo>
              </a:path>
              <a:path w="2854" h="6202">
                <a:moveTo>
                  <a:pt x="7268" y="15304"/>
                </a:moveTo>
                <a:cubicBezTo>
                  <a:pt x="7268" y="15362"/>
                  <a:pt x="7268" y="15420"/>
                  <a:pt x="7268" y="15478"/>
                </a:cubicBezTo>
              </a:path>
              <a:path w="2854" h="6202">
                <a:moveTo>
                  <a:pt x="7144" y="15379"/>
                </a:moveTo>
                <a:cubicBezTo>
                  <a:pt x="7245" y="15373"/>
                  <a:pt x="7340" y="15360"/>
                  <a:pt x="7441" y="15354"/>
                </a:cubicBezTo>
              </a:path>
              <a:path w="2854" h="6202">
                <a:moveTo>
                  <a:pt x="7615" y="15205"/>
                </a:moveTo>
                <a:cubicBezTo>
                  <a:pt x="7650" y="15170"/>
                  <a:pt x="7672" y="15157"/>
                  <a:pt x="7714" y="15156"/>
                </a:cubicBezTo>
                <a:cubicBezTo>
                  <a:pt x="7784" y="15306"/>
                  <a:pt x="7756" y="15307"/>
                  <a:pt x="7640" y="15429"/>
                </a:cubicBezTo>
                <a:cubicBezTo>
                  <a:pt x="7615" y="15453"/>
                  <a:pt x="7606" y="15461"/>
                  <a:pt x="7590" y="15478"/>
                </a:cubicBezTo>
                <a:cubicBezTo>
                  <a:pt x="7690" y="15428"/>
                  <a:pt x="7703" y="15463"/>
                  <a:pt x="7789" y="15503"/>
                </a:cubicBezTo>
                <a:cubicBezTo>
                  <a:pt x="7826" y="15520"/>
                  <a:pt x="7864" y="15472"/>
                  <a:pt x="7888" y="15453"/>
                </a:cubicBezTo>
              </a:path>
              <a:path w="2854" h="6202">
                <a:moveTo>
                  <a:pt x="5953" y="15801"/>
                </a:moveTo>
                <a:cubicBezTo>
                  <a:pt x="5986" y="15788"/>
                  <a:pt x="6242" y="15667"/>
                  <a:pt x="6176" y="15825"/>
                </a:cubicBezTo>
                <a:cubicBezTo>
                  <a:pt x="6130" y="15872"/>
                  <a:pt x="6118" y="15886"/>
                  <a:pt x="6077" y="15900"/>
                </a:cubicBezTo>
                <a:cubicBezTo>
                  <a:pt x="6185" y="15966"/>
                  <a:pt x="6256" y="16021"/>
                  <a:pt x="6077" y="16049"/>
                </a:cubicBezTo>
                <a:cubicBezTo>
                  <a:pt x="6052" y="16049"/>
                  <a:pt x="6028" y="16049"/>
                  <a:pt x="6003" y="16049"/>
                </a:cubicBezTo>
              </a:path>
              <a:path w="2854" h="6202">
                <a:moveTo>
                  <a:pt x="6524" y="15776"/>
                </a:moveTo>
                <a:cubicBezTo>
                  <a:pt x="6457" y="15849"/>
                  <a:pt x="6265" y="16009"/>
                  <a:pt x="6474" y="16049"/>
                </a:cubicBezTo>
                <a:cubicBezTo>
                  <a:pt x="6491" y="16041"/>
                  <a:pt x="6507" y="16032"/>
                  <a:pt x="6524" y="16024"/>
                </a:cubicBezTo>
                <a:cubicBezTo>
                  <a:pt x="6557" y="15886"/>
                  <a:pt x="6558" y="15898"/>
                  <a:pt x="6449" y="15825"/>
                </a:cubicBezTo>
              </a:path>
              <a:path w="2854" h="6202">
                <a:moveTo>
                  <a:pt x="6796" y="15801"/>
                </a:moveTo>
                <a:cubicBezTo>
                  <a:pt x="6721" y="15895"/>
                  <a:pt x="6713" y="15911"/>
                  <a:pt x="6722" y="16024"/>
                </a:cubicBezTo>
                <a:cubicBezTo>
                  <a:pt x="6791" y="16024"/>
                  <a:pt x="7055" y="16033"/>
                  <a:pt x="6970" y="15875"/>
                </a:cubicBezTo>
                <a:cubicBezTo>
                  <a:pt x="6899" y="15827"/>
                  <a:pt x="6878" y="15811"/>
                  <a:pt x="6821" y="15801"/>
                </a:cubicBezTo>
              </a:path>
              <a:path w="2854" h="6202">
                <a:moveTo>
                  <a:pt x="7243" y="15751"/>
                </a:moveTo>
                <a:cubicBezTo>
                  <a:pt x="7243" y="15817"/>
                  <a:pt x="7243" y="15883"/>
                  <a:pt x="7243" y="15949"/>
                </a:cubicBezTo>
              </a:path>
              <a:path w="2854" h="6202">
                <a:moveTo>
                  <a:pt x="7094" y="15875"/>
                </a:moveTo>
                <a:cubicBezTo>
                  <a:pt x="7176" y="15848"/>
                  <a:pt x="7209" y="15837"/>
                  <a:pt x="7268" y="15825"/>
                </a:cubicBezTo>
              </a:path>
              <a:path w="2854" h="6202">
                <a:moveTo>
                  <a:pt x="7565" y="15726"/>
                </a:moveTo>
                <a:cubicBezTo>
                  <a:pt x="7620" y="15718"/>
                  <a:pt x="7634" y="15709"/>
                  <a:pt x="7689" y="15701"/>
                </a:cubicBezTo>
                <a:cubicBezTo>
                  <a:pt x="7676" y="15821"/>
                  <a:pt x="7631" y="15834"/>
                  <a:pt x="7565" y="15925"/>
                </a:cubicBezTo>
                <a:cubicBezTo>
                  <a:pt x="7557" y="15941"/>
                  <a:pt x="7549" y="15958"/>
                  <a:pt x="7541" y="15974"/>
                </a:cubicBezTo>
                <a:cubicBezTo>
                  <a:pt x="7606" y="15952"/>
                  <a:pt x="7661" y="15986"/>
                  <a:pt x="7739" y="15999"/>
                </a:cubicBezTo>
              </a:path>
              <a:path w="2854" h="6202">
                <a:moveTo>
                  <a:pt x="6474" y="16247"/>
                </a:moveTo>
                <a:cubicBezTo>
                  <a:pt x="6565" y="16227"/>
                  <a:pt x="6832" y="16170"/>
                  <a:pt x="6821" y="16346"/>
                </a:cubicBezTo>
                <a:cubicBezTo>
                  <a:pt x="6813" y="16476"/>
                  <a:pt x="6689" y="16490"/>
                  <a:pt x="6598" y="16520"/>
                </a:cubicBezTo>
                <a:cubicBezTo>
                  <a:pt x="6750" y="16461"/>
                  <a:pt x="6805" y="16480"/>
                  <a:pt x="6846" y="16644"/>
                </a:cubicBezTo>
                <a:cubicBezTo>
                  <a:pt x="6734" y="16724"/>
                  <a:pt x="6559" y="16820"/>
                  <a:pt x="6424" y="16694"/>
                </a:cubicBezTo>
                <a:cubicBezTo>
                  <a:pt x="6424" y="16677"/>
                  <a:pt x="6424" y="16661"/>
                  <a:pt x="6424" y="16644"/>
                </a:cubicBezTo>
              </a:path>
              <a:path w="2854" h="6202">
                <a:moveTo>
                  <a:pt x="7243" y="16297"/>
                </a:moveTo>
                <a:cubicBezTo>
                  <a:pt x="7178" y="16367"/>
                  <a:pt x="6893" y="16601"/>
                  <a:pt x="7020" y="16718"/>
                </a:cubicBezTo>
                <a:cubicBezTo>
                  <a:pt x="7166" y="16853"/>
                  <a:pt x="7440" y="16687"/>
                  <a:pt x="7466" y="16520"/>
                </a:cubicBezTo>
                <a:cubicBezTo>
                  <a:pt x="7438" y="16407"/>
                  <a:pt x="7417" y="16367"/>
                  <a:pt x="7317" y="16346"/>
                </a:cubicBezTo>
              </a:path>
              <a:path w="2854" h="6202">
                <a:moveTo>
                  <a:pt x="7689" y="16272"/>
                </a:moveTo>
                <a:cubicBezTo>
                  <a:pt x="7540" y="16310"/>
                  <a:pt x="7768" y="16200"/>
                  <a:pt x="7789" y="16197"/>
                </a:cubicBezTo>
                <a:cubicBezTo>
                  <a:pt x="7868" y="16184"/>
                  <a:pt x="7933" y="16233"/>
                  <a:pt x="7913" y="16321"/>
                </a:cubicBezTo>
                <a:cubicBezTo>
                  <a:pt x="7890" y="16424"/>
                  <a:pt x="7854" y="16457"/>
                  <a:pt x="7764" y="16520"/>
                </a:cubicBezTo>
                <a:cubicBezTo>
                  <a:pt x="7671" y="16585"/>
                  <a:pt x="7538" y="16630"/>
                  <a:pt x="7491" y="16743"/>
                </a:cubicBezTo>
                <a:cubicBezTo>
                  <a:pt x="7491" y="16760"/>
                  <a:pt x="7491" y="16776"/>
                  <a:pt x="7491" y="16793"/>
                </a:cubicBezTo>
                <a:cubicBezTo>
                  <a:pt x="7557" y="16702"/>
                  <a:pt x="7599" y="16636"/>
                  <a:pt x="7714" y="16619"/>
                </a:cubicBezTo>
                <a:cubicBezTo>
                  <a:pt x="7816" y="16604"/>
                  <a:pt x="7801" y="16730"/>
                  <a:pt x="7863" y="16743"/>
                </a:cubicBezTo>
                <a:cubicBezTo>
                  <a:pt x="7952" y="16743"/>
                  <a:pt x="7978" y="16750"/>
                  <a:pt x="8012" y="16694"/>
                </a:cubicBezTo>
              </a:path>
              <a:path w="2854" h="6202">
                <a:moveTo>
                  <a:pt x="7367" y="16148"/>
                </a:moveTo>
                <a:cubicBezTo>
                  <a:pt x="7247" y="16084"/>
                  <a:pt x="7193" y="16072"/>
                  <a:pt x="7069" y="16049"/>
                </a:cubicBezTo>
                <a:cubicBezTo>
                  <a:pt x="7000" y="16036"/>
                  <a:pt x="6943" y="16026"/>
                  <a:pt x="6871" y="16024"/>
                </a:cubicBezTo>
                <a:cubicBezTo>
                  <a:pt x="6787" y="16022"/>
                  <a:pt x="6745" y="16042"/>
                  <a:pt x="6672" y="16073"/>
                </a:cubicBezTo>
                <a:cubicBezTo>
                  <a:pt x="6591" y="16107"/>
                  <a:pt x="6526" y="16134"/>
                  <a:pt x="6449" y="16173"/>
                </a:cubicBezTo>
                <a:cubicBezTo>
                  <a:pt x="6390" y="16203"/>
                  <a:pt x="6334" y="16220"/>
                  <a:pt x="6276" y="16247"/>
                </a:cubicBezTo>
                <a:cubicBezTo>
                  <a:pt x="6201" y="16283"/>
                  <a:pt x="6144" y="16335"/>
                  <a:pt x="6127" y="16421"/>
                </a:cubicBezTo>
                <a:cubicBezTo>
                  <a:pt x="6103" y="16545"/>
                  <a:pt x="6149" y="16659"/>
                  <a:pt x="6201" y="16768"/>
                </a:cubicBezTo>
                <a:cubicBezTo>
                  <a:pt x="6291" y="16959"/>
                  <a:pt x="6388" y="16979"/>
                  <a:pt x="6573" y="17041"/>
                </a:cubicBezTo>
                <a:cubicBezTo>
                  <a:pt x="6750" y="17101"/>
                  <a:pt x="6933" y="17129"/>
                  <a:pt x="7119" y="17140"/>
                </a:cubicBezTo>
                <a:cubicBezTo>
                  <a:pt x="7278" y="17150"/>
                  <a:pt x="7429" y="17165"/>
                  <a:pt x="7590" y="17165"/>
                </a:cubicBezTo>
                <a:cubicBezTo>
                  <a:pt x="7694" y="17165"/>
                  <a:pt x="7842" y="17161"/>
                  <a:pt x="7938" y="17115"/>
                </a:cubicBezTo>
                <a:cubicBezTo>
                  <a:pt x="8047" y="17063"/>
                  <a:pt x="8157" y="17001"/>
                  <a:pt x="8260" y="16942"/>
                </a:cubicBezTo>
                <a:cubicBezTo>
                  <a:pt x="8359" y="16885"/>
                  <a:pt x="8502" y="16827"/>
                  <a:pt x="8582" y="16743"/>
                </a:cubicBezTo>
                <a:cubicBezTo>
                  <a:pt x="8641" y="16681"/>
                  <a:pt x="8634" y="16606"/>
                  <a:pt x="8607" y="16545"/>
                </a:cubicBezTo>
                <a:cubicBezTo>
                  <a:pt x="8567" y="16453"/>
                  <a:pt x="8515" y="16400"/>
                  <a:pt x="8434" y="16346"/>
                </a:cubicBezTo>
                <a:cubicBezTo>
                  <a:pt x="8343" y="16285"/>
                  <a:pt x="8236" y="16260"/>
                  <a:pt x="8136" y="16222"/>
                </a:cubicBezTo>
                <a:cubicBezTo>
                  <a:pt x="8033" y="16183"/>
                  <a:pt x="7939" y="16149"/>
                  <a:pt x="7838" y="16123"/>
                </a:cubicBezTo>
                <a:cubicBezTo>
                  <a:pt x="7701" y="16087"/>
                  <a:pt x="7576" y="16089"/>
                  <a:pt x="7441" y="16098"/>
                </a:cubicBezTo>
                <a:cubicBezTo>
                  <a:pt x="7353" y="16104"/>
                  <a:pt x="7279" y="16106"/>
                  <a:pt x="7193" y="16123"/>
                </a:cubicBezTo>
              </a:path>
              <a:path w="2854" h="6202">
                <a:moveTo>
                  <a:pt x="7317" y="14163"/>
                </a:moveTo>
                <a:cubicBezTo>
                  <a:pt x="7256" y="14156"/>
                  <a:pt x="7207" y="14141"/>
                  <a:pt x="7144" y="14139"/>
                </a:cubicBezTo>
                <a:cubicBezTo>
                  <a:pt x="7034" y="14135"/>
                  <a:pt x="6934" y="14114"/>
                  <a:pt x="6821" y="14114"/>
                </a:cubicBezTo>
                <a:cubicBezTo>
                  <a:pt x="6730" y="14114"/>
                  <a:pt x="6584" y="14126"/>
                  <a:pt x="6499" y="14163"/>
                </a:cubicBezTo>
                <a:cubicBezTo>
                  <a:pt x="6393" y="14209"/>
                  <a:pt x="6315" y="14325"/>
                  <a:pt x="6300" y="14436"/>
                </a:cubicBezTo>
                <a:cubicBezTo>
                  <a:pt x="6282" y="14573"/>
                  <a:pt x="6298" y="14838"/>
                  <a:pt x="6424" y="14932"/>
                </a:cubicBezTo>
                <a:cubicBezTo>
                  <a:pt x="6565" y="15037"/>
                  <a:pt x="6804" y="15070"/>
                  <a:pt x="6970" y="15106"/>
                </a:cubicBezTo>
                <a:cubicBezTo>
                  <a:pt x="7141" y="15142"/>
                  <a:pt x="7342" y="15150"/>
                  <a:pt x="7516" y="15131"/>
                </a:cubicBezTo>
                <a:cubicBezTo>
                  <a:pt x="7638" y="15118"/>
                  <a:pt x="7747" y="15094"/>
                  <a:pt x="7863" y="15056"/>
                </a:cubicBezTo>
                <a:cubicBezTo>
                  <a:pt x="7995" y="15013"/>
                  <a:pt x="8078" y="14943"/>
                  <a:pt x="8161" y="14833"/>
                </a:cubicBezTo>
                <a:cubicBezTo>
                  <a:pt x="8253" y="14711"/>
                  <a:pt x="8282" y="14637"/>
                  <a:pt x="8235" y="14486"/>
                </a:cubicBezTo>
                <a:cubicBezTo>
                  <a:pt x="8213" y="14415"/>
                  <a:pt x="8100" y="14316"/>
                  <a:pt x="8037" y="14288"/>
                </a:cubicBezTo>
                <a:cubicBezTo>
                  <a:pt x="7948" y="14248"/>
                  <a:pt x="7836" y="14217"/>
                  <a:pt x="7739" y="14213"/>
                </a:cubicBezTo>
                <a:cubicBezTo>
                  <a:pt x="7665" y="14210"/>
                  <a:pt x="7590" y="14213"/>
                  <a:pt x="7516" y="14213"/>
                </a:cubicBezTo>
              </a:path>
              <a:path w="2854" h="6202">
                <a:moveTo>
                  <a:pt x="7020" y="12179"/>
                </a:moveTo>
                <a:cubicBezTo>
                  <a:pt x="6894" y="12179"/>
                  <a:pt x="6736" y="12151"/>
                  <a:pt x="6623" y="12204"/>
                </a:cubicBezTo>
                <a:cubicBezTo>
                  <a:pt x="6566" y="12231"/>
                  <a:pt x="6501" y="12263"/>
                  <a:pt x="6449" y="12303"/>
                </a:cubicBezTo>
                <a:cubicBezTo>
                  <a:pt x="6382" y="12355"/>
                  <a:pt x="6320" y="12445"/>
                  <a:pt x="6300" y="12526"/>
                </a:cubicBezTo>
                <a:cubicBezTo>
                  <a:pt x="6274" y="12629"/>
                  <a:pt x="6312" y="12667"/>
                  <a:pt x="6375" y="12725"/>
                </a:cubicBezTo>
                <a:cubicBezTo>
                  <a:pt x="6482" y="12822"/>
                  <a:pt x="6585" y="12833"/>
                  <a:pt x="6722" y="12874"/>
                </a:cubicBezTo>
                <a:cubicBezTo>
                  <a:pt x="6839" y="12909"/>
                  <a:pt x="6953" y="12917"/>
                  <a:pt x="7069" y="12948"/>
                </a:cubicBezTo>
                <a:cubicBezTo>
                  <a:pt x="7196" y="12982"/>
                  <a:pt x="7292" y="12981"/>
                  <a:pt x="7417" y="12973"/>
                </a:cubicBezTo>
                <a:cubicBezTo>
                  <a:pt x="7520" y="12966"/>
                  <a:pt x="7614" y="12935"/>
                  <a:pt x="7714" y="12923"/>
                </a:cubicBezTo>
                <a:cubicBezTo>
                  <a:pt x="7855" y="12907"/>
                  <a:pt x="7852" y="12909"/>
                  <a:pt x="7962" y="12799"/>
                </a:cubicBezTo>
                <a:cubicBezTo>
                  <a:pt x="8037" y="12725"/>
                  <a:pt x="8077" y="12655"/>
                  <a:pt x="8086" y="12551"/>
                </a:cubicBezTo>
                <a:cubicBezTo>
                  <a:pt x="8092" y="12485"/>
                  <a:pt x="8063" y="12369"/>
                  <a:pt x="8012" y="12328"/>
                </a:cubicBezTo>
                <a:cubicBezTo>
                  <a:pt x="7970" y="12294"/>
                  <a:pt x="7843" y="12239"/>
                  <a:pt x="7789" y="12229"/>
                </a:cubicBezTo>
                <a:cubicBezTo>
                  <a:pt x="7710" y="12214"/>
                  <a:pt x="7621" y="12188"/>
                  <a:pt x="7541" y="12179"/>
                </a:cubicBezTo>
                <a:cubicBezTo>
                  <a:pt x="7474" y="12171"/>
                  <a:pt x="7409" y="12157"/>
                  <a:pt x="7342" y="12154"/>
                </a:cubicBezTo>
                <a:cubicBezTo>
                  <a:pt x="7244" y="12150"/>
                  <a:pt x="7163" y="12190"/>
                  <a:pt x="7069" y="12204"/>
                </a:cubicBezTo>
                <a:cubicBezTo>
                  <a:pt x="6990" y="12215"/>
                  <a:pt x="6921" y="12245"/>
                  <a:pt x="6846" y="122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26000" y="3795840"/>
            <a:ext cx="955800" cy="419040"/>
          </a:xfrm>
          <a:custGeom>
            <a:avLst/>
            <a:gdLst/>
            <a:ahLst/>
            <a:rect l="l" t="t" r="r" b="b"/>
            <a:pathLst>
              <a:path w="2655" h="1167">
                <a:moveTo>
                  <a:pt x="13022" y="10964"/>
                </a:moveTo>
                <a:cubicBezTo>
                  <a:pt x="12925" y="11078"/>
                  <a:pt x="12787" y="11220"/>
                  <a:pt x="12874" y="11385"/>
                </a:cubicBezTo>
                <a:cubicBezTo>
                  <a:pt x="12904" y="11442"/>
                  <a:pt x="12969" y="11479"/>
                  <a:pt x="13022" y="11509"/>
                </a:cubicBezTo>
              </a:path>
              <a:path w="2655" h="1167">
                <a:moveTo>
                  <a:pt x="13196" y="11112"/>
                </a:moveTo>
                <a:cubicBezTo>
                  <a:pt x="13174" y="11206"/>
                  <a:pt x="13171" y="11288"/>
                  <a:pt x="13171" y="11385"/>
                </a:cubicBezTo>
              </a:path>
              <a:path w="2655" h="1167">
                <a:moveTo>
                  <a:pt x="13370" y="11088"/>
                </a:moveTo>
                <a:cubicBezTo>
                  <a:pt x="13389" y="11158"/>
                  <a:pt x="13381" y="11249"/>
                  <a:pt x="13419" y="11311"/>
                </a:cubicBezTo>
                <a:cubicBezTo>
                  <a:pt x="13455" y="11370"/>
                  <a:pt x="13583" y="11377"/>
                  <a:pt x="13643" y="11361"/>
                </a:cubicBezTo>
                <a:cubicBezTo>
                  <a:pt x="13703" y="11345"/>
                  <a:pt x="13707" y="11312"/>
                  <a:pt x="13717" y="11261"/>
                </a:cubicBezTo>
                <a:cubicBezTo>
                  <a:pt x="13620" y="11238"/>
                  <a:pt x="13611" y="11253"/>
                  <a:pt x="13593" y="11361"/>
                </a:cubicBezTo>
              </a:path>
              <a:path w="2655" h="1167">
                <a:moveTo>
                  <a:pt x="13990" y="11286"/>
                </a:moveTo>
                <a:cubicBezTo>
                  <a:pt x="14081" y="11263"/>
                  <a:pt x="14106" y="11257"/>
                  <a:pt x="14163" y="11237"/>
                </a:cubicBezTo>
              </a:path>
              <a:path w="2655" h="1167">
                <a:moveTo>
                  <a:pt x="14312" y="11063"/>
                </a:moveTo>
                <a:cubicBezTo>
                  <a:pt x="14261" y="11219"/>
                  <a:pt x="14438" y="11160"/>
                  <a:pt x="14536" y="11137"/>
                </a:cubicBezTo>
              </a:path>
              <a:path w="2655" h="1167">
                <a:moveTo>
                  <a:pt x="14486" y="10964"/>
                </a:moveTo>
                <a:cubicBezTo>
                  <a:pt x="14486" y="11069"/>
                  <a:pt x="14478" y="11164"/>
                  <a:pt x="14511" y="11261"/>
                </a:cubicBezTo>
              </a:path>
              <a:path w="2655" h="1167">
                <a:moveTo>
                  <a:pt x="14610" y="10815"/>
                </a:moveTo>
                <a:cubicBezTo>
                  <a:pt x="14678" y="10897"/>
                  <a:pt x="14727" y="10957"/>
                  <a:pt x="14734" y="11063"/>
                </a:cubicBezTo>
                <a:cubicBezTo>
                  <a:pt x="14741" y="11175"/>
                  <a:pt x="14711" y="11274"/>
                  <a:pt x="14610" y="11336"/>
                </a:cubicBezTo>
                <a:cubicBezTo>
                  <a:pt x="14602" y="11336"/>
                  <a:pt x="14593" y="11336"/>
                  <a:pt x="14585" y="11336"/>
                </a:cubicBezTo>
              </a:path>
              <a:path w="2655" h="1167">
                <a:moveTo>
                  <a:pt x="15081" y="10542"/>
                </a:moveTo>
                <a:cubicBezTo>
                  <a:pt x="15040" y="10828"/>
                  <a:pt x="14910" y="11066"/>
                  <a:pt x="14808" y="11336"/>
                </a:cubicBezTo>
                <a:cubicBezTo>
                  <a:pt x="14765" y="11450"/>
                  <a:pt x="14708" y="11589"/>
                  <a:pt x="14684" y="11708"/>
                </a:cubicBezTo>
              </a:path>
              <a:path w="2655" h="1167">
                <a:moveTo>
                  <a:pt x="15131" y="11013"/>
                </a:moveTo>
                <a:cubicBezTo>
                  <a:pt x="15175" y="10969"/>
                  <a:pt x="15201" y="10896"/>
                  <a:pt x="15255" y="10864"/>
                </a:cubicBezTo>
                <a:cubicBezTo>
                  <a:pt x="15452" y="10748"/>
                  <a:pt x="15370" y="10984"/>
                  <a:pt x="15329" y="11063"/>
                </a:cubicBezTo>
                <a:cubicBezTo>
                  <a:pt x="15281" y="11157"/>
                  <a:pt x="15220" y="11230"/>
                  <a:pt x="15156" y="11311"/>
                </a:cubicBezTo>
                <a:cubicBezTo>
                  <a:pt x="15270" y="11154"/>
                  <a:pt x="15262" y="11241"/>
                  <a:pt x="15429" y="11212"/>
                </a:cubicBezTo>
                <a:cubicBezTo>
                  <a:pt x="15469" y="11192"/>
                  <a:pt x="15475" y="11183"/>
                  <a:pt x="15503" y="111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94200" y="4875120"/>
            <a:ext cx="249480" cy="162000"/>
          </a:xfrm>
          <a:custGeom>
            <a:avLst/>
            <a:gdLst/>
            <a:ahLst/>
            <a:rect l="l" t="t" r="r" b="b"/>
            <a:pathLst>
              <a:path w="696" h="448">
                <a:moveTo>
                  <a:pt x="13643" y="13667"/>
                </a:moveTo>
                <a:cubicBezTo>
                  <a:pt x="13590" y="13747"/>
                  <a:pt x="13538" y="13841"/>
                  <a:pt x="13692" y="13841"/>
                </a:cubicBezTo>
                <a:cubicBezTo>
                  <a:pt x="13782" y="13818"/>
                  <a:pt x="13806" y="13810"/>
                  <a:pt x="13866" y="13816"/>
                </a:cubicBezTo>
              </a:path>
              <a:path w="696" h="448">
                <a:moveTo>
                  <a:pt x="13940" y="13618"/>
                </a:moveTo>
                <a:cubicBezTo>
                  <a:pt x="13915" y="13743"/>
                  <a:pt x="13903" y="13882"/>
                  <a:pt x="13841" y="13990"/>
                </a:cubicBezTo>
              </a:path>
              <a:path w="696" h="448">
                <a:moveTo>
                  <a:pt x="14089" y="13717"/>
                </a:moveTo>
                <a:cubicBezTo>
                  <a:pt x="14020" y="13832"/>
                  <a:pt x="14148" y="13809"/>
                  <a:pt x="14238" y="13816"/>
                </a:cubicBezTo>
              </a:path>
              <a:path w="696" h="448">
                <a:moveTo>
                  <a:pt x="14288" y="13543"/>
                </a:moveTo>
                <a:cubicBezTo>
                  <a:pt x="14259" y="13695"/>
                  <a:pt x="14238" y="13835"/>
                  <a:pt x="14238" y="139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49880" y="4894200"/>
            <a:ext cx="54000" cy="123840"/>
          </a:xfrm>
          <a:custGeom>
            <a:avLst/>
            <a:gdLst/>
            <a:ahLst/>
            <a:rect l="l" t="t" r="r" b="b"/>
            <a:pathLst>
              <a:path w="150" h="348">
                <a:moveTo>
                  <a:pt x="14610" y="13841"/>
                </a:moveTo>
                <a:cubicBezTo>
                  <a:pt x="14677" y="13818"/>
                  <a:pt x="14695" y="13813"/>
                  <a:pt x="14734" y="13791"/>
                </a:cubicBezTo>
              </a:path>
              <a:path w="150" h="348">
                <a:moveTo>
                  <a:pt x="14585" y="13593"/>
                </a:moveTo>
                <a:lnTo>
                  <a:pt x="14585" y="13593"/>
                </a:lnTo>
              </a:path>
              <a:path w="150" h="348">
                <a:moveTo>
                  <a:pt x="14585" y="13940"/>
                </a:moveTo>
                <a:lnTo>
                  <a:pt x="14585" y="13940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2800" y="4884840"/>
            <a:ext cx="11736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15056" y="13618"/>
                </a:moveTo>
                <a:cubicBezTo>
                  <a:pt x="15120" y="13576"/>
                  <a:pt x="15131" y="13559"/>
                  <a:pt x="15180" y="13568"/>
                </a:cubicBezTo>
                <a:cubicBezTo>
                  <a:pt x="15217" y="13698"/>
                  <a:pt x="15126" y="13769"/>
                  <a:pt x="15032" y="13866"/>
                </a:cubicBezTo>
                <a:cubicBezTo>
                  <a:pt x="15015" y="13882"/>
                  <a:pt x="14999" y="13899"/>
                  <a:pt x="14982" y="13915"/>
                </a:cubicBezTo>
                <a:cubicBezTo>
                  <a:pt x="15102" y="13839"/>
                  <a:pt x="15119" y="13860"/>
                  <a:pt x="15255" y="13866"/>
                </a:cubicBezTo>
                <a:cubicBezTo>
                  <a:pt x="15271" y="13866"/>
                  <a:pt x="15288" y="13866"/>
                  <a:pt x="15304" y="138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9000" y="5054760"/>
            <a:ext cx="928800" cy="588960"/>
          </a:xfrm>
          <a:custGeom>
            <a:avLst/>
            <a:gdLst/>
            <a:ahLst/>
            <a:rect l="l" t="t" r="r" b="b"/>
            <a:pathLst>
              <a:path w="2581" h="1639">
                <a:moveTo>
                  <a:pt x="14139" y="14412"/>
                </a:moveTo>
                <a:cubicBezTo>
                  <a:pt x="14226" y="14346"/>
                  <a:pt x="14244" y="14326"/>
                  <a:pt x="14312" y="14312"/>
                </a:cubicBezTo>
                <a:cubicBezTo>
                  <a:pt x="14401" y="14356"/>
                  <a:pt x="14370" y="14462"/>
                  <a:pt x="14312" y="14536"/>
                </a:cubicBezTo>
                <a:cubicBezTo>
                  <a:pt x="14228" y="14642"/>
                  <a:pt x="14111" y="14695"/>
                  <a:pt x="14039" y="14808"/>
                </a:cubicBezTo>
                <a:cubicBezTo>
                  <a:pt x="14111" y="14738"/>
                  <a:pt x="14160" y="14668"/>
                  <a:pt x="14263" y="14660"/>
                </a:cubicBezTo>
                <a:cubicBezTo>
                  <a:pt x="14379" y="14650"/>
                  <a:pt x="14424" y="14722"/>
                  <a:pt x="14560" y="14684"/>
                </a:cubicBezTo>
              </a:path>
              <a:path w="2581" h="1639">
                <a:moveTo>
                  <a:pt x="14536" y="14436"/>
                </a:moveTo>
                <a:cubicBezTo>
                  <a:pt x="14599" y="14357"/>
                  <a:pt x="14639" y="14311"/>
                  <a:pt x="14734" y="14288"/>
                </a:cubicBezTo>
                <a:cubicBezTo>
                  <a:pt x="14813" y="14366"/>
                  <a:pt x="14786" y="14487"/>
                  <a:pt x="14709" y="14610"/>
                </a:cubicBezTo>
                <a:cubicBezTo>
                  <a:pt x="14649" y="14691"/>
                  <a:pt x="14644" y="14714"/>
                  <a:pt x="14585" y="14734"/>
                </a:cubicBezTo>
                <a:cubicBezTo>
                  <a:pt x="14667" y="14629"/>
                  <a:pt x="14659" y="14652"/>
                  <a:pt x="14784" y="14660"/>
                </a:cubicBezTo>
                <a:cubicBezTo>
                  <a:pt x="14866" y="14660"/>
                  <a:pt x="14883" y="14660"/>
                  <a:pt x="14932" y="14660"/>
                </a:cubicBezTo>
              </a:path>
              <a:path w="2581" h="1639">
                <a:moveTo>
                  <a:pt x="13940" y="15007"/>
                </a:moveTo>
                <a:cubicBezTo>
                  <a:pt x="14175" y="15050"/>
                  <a:pt x="14396" y="15078"/>
                  <a:pt x="14635" y="15032"/>
                </a:cubicBezTo>
                <a:cubicBezTo>
                  <a:pt x="14878" y="14985"/>
                  <a:pt x="15140" y="14848"/>
                  <a:pt x="15280" y="14635"/>
                </a:cubicBezTo>
                <a:cubicBezTo>
                  <a:pt x="15413" y="14433"/>
                  <a:pt x="15385" y="14250"/>
                  <a:pt x="15180" y="14139"/>
                </a:cubicBezTo>
                <a:cubicBezTo>
                  <a:pt x="14970" y="14026"/>
                  <a:pt x="14719" y="14019"/>
                  <a:pt x="14486" y="14039"/>
                </a:cubicBezTo>
                <a:cubicBezTo>
                  <a:pt x="14277" y="14057"/>
                  <a:pt x="14033" y="14158"/>
                  <a:pt x="13866" y="14288"/>
                </a:cubicBezTo>
                <a:cubicBezTo>
                  <a:pt x="13747" y="14381"/>
                  <a:pt x="13612" y="14546"/>
                  <a:pt x="13643" y="14709"/>
                </a:cubicBezTo>
                <a:cubicBezTo>
                  <a:pt x="13704" y="15032"/>
                  <a:pt x="14036" y="14957"/>
                  <a:pt x="14263" y="14932"/>
                </a:cubicBezTo>
              </a:path>
              <a:path w="2581" h="1639">
                <a:moveTo>
                  <a:pt x="12799" y="15230"/>
                </a:moveTo>
                <a:cubicBezTo>
                  <a:pt x="12790" y="15357"/>
                  <a:pt x="12774" y="15473"/>
                  <a:pt x="12774" y="15602"/>
                </a:cubicBezTo>
              </a:path>
              <a:path w="2581" h="1639">
                <a:moveTo>
                  <a:pt x="13122" y="15255"/>
                </a:moveTo>
                <a:cubicBezTo>
                  <a:pt x="13008" y="15212"/>
                  <a:pt x="13005" y="15251"/>
                  <a:pt x="12948" y="15354"/>
                </a:cubicBezTo>
                <a:cubicBezTo>
                  <a:pt x="13086" y="15339"/>
                  <a:pt x="13091" y="15361"/>
                  <a:pt x="13171" y="15255"/>
                </a:cubicBezTo>
                <a:cubicBezTo>
                  <a:pt x="13171" y="15346"/>
                  <a:pt x="13171" y="15437"/>
                  <a:pt x="13171" y="15528"/>
                </a:cubicBezTo>
              </a:path>
              <a:path w="2581" h="1639">
                <a:moveTo>
                  <a:pt x="13320" y="15280"/>
                </a:moveTo>
                <a:cubicBezTo>
                  <a:pt x="13308" y="15396"/>
                  <a:pt x="13267" y="15451"/>
                  <a:pt x="13345" y="15528"/>
                </a:cubicBezTo>
                <a:cubicBezTo>
                  <a:pt x="13475" y="15445"/>
                  <a:pt x="13518" y="15375"/>
                  <a:pt x="13395" y="15280"/>
                </a:cubicBezTo>
              </a:path>
              <a:path w="2581" h="1639">
                <a:moveTo>
                  <a:pt x="12923" y="15131"/>
                </a:moveTo>
                <a:cubicBezTo>
                  <a:pt x="12862" y="15262"/>
                  <a:pt x="12748" y="15457"/>
                  <a:pt x="12849" y="15602"/>
                </a:cubicBezTo>
                <a:cubicBezTo>
                  <a:pt x="12882" y="15627"/>
                  <a:pt x="12915" y="15652"/>
                  <a:pt x="12948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00920" y="4044960"/>
            <a:ext cx="492120" cy="241200"/>
          </a:xfrm>
          <a:custGeom>
            <a:avLst/>
            <a:gdLst/>
            <a:ahLst/>
            <a:rect l="l" t="t" r="r" b="b"/>
            <a:pathLst>
              <a:path w="1365" h="670">
                <a:moveTo>
                  <a:pt x="19447" y="11410"/>
                </a:moveTo>
                <a:cubicBezTo>
                  <a:pt x="19498" y="11496"/>
                  <a:pt x="19501" y="11508"/>
                  <a:pt x="19472" y="11609"/>
                </a:cubicBezTo>
                <a:cubicBezTo>
                  <a:pt x="19596" y="11629"/>
                  <a:pt x="19620" y="11637"/>
                  <a:pt x="19695" y="11633"/>
                </a:cubicBezTo>
              </a:path>
              <a:path w="1365" h="670">
                <a:moveTo>
                  <a:pt x="19695" y="11385"/>
                </a:moveTo>
                <a:cubicBezTo>
                  <a:pt x="19680" y="11536"/>
                  <a:pt x="19653" y="11683"/>
                  <a:pt x="19621" y="11832"/>
                </a:cubicBezTo>
              </a:path>
              <a:path w="1365" h="670">
                <a:moveTo>
                  <a:pt x="19943" y="11261"/>
                </a:moveTo>
                <a:cubicBezTo>
                  <a:pt x="19789" y="11497"/>
                  <a:pt x="19735" y="11632"/>
                  <a:pt x="19794" y="11906"/>
                </a:cubicBezTo>
              </a:path>
              <a:path w="1365" h="670">
                <a:moveTo>
                  <a:pt x="20191" y="11609"/>
                </a:moveTo>
                <a:cubicBezTo>
                  <a:pt x="20191" y="11555"/>
                  <a:pt x="20185" y="11536"/>
                  <a:pt x="20166" y="11485"/>
                </a:cubicBezTo>
                <a:cubicBezTo>
                  <a:pt x="20122" y="11489"/>
                  <a:pt x="19883" y="11573"/>
                  <a:pt x="19993" y="11658"/>
                </a:cubicBezTo>
                <a:cubicBezTo>
                  <a:pt x="20067" y="11715"/>
                  <a:pt x="20180" y="11567"/>
                  <a:pt x="20216" y="11534"/>
                </a:cubicBezTo>
                <a:cubicBezTo>
                  <a:pt x="20200" y="11638"/>
                  <a:pt x="20191" y="11726"/>
                  <a:pt x="20191" y="11832"/>
                </a:cubicBezTo>
              </a:path>
              <a:path w="1365" h="670">
                <a:moveTo>
                  <a:pt x="20315" y="11237"/>
                </a:moveTo>
                <a:cubicBezTo>
                  <a:pt x="20447" y="11418"/>
                  <a:pt x="20618" y="11599"/>
                  <a:pt x="20489" y="11832"/>
                </a:cubicBezTo>
                <a:cubicBezTo>
                  <a:pt x="20472" y="11840"/>
                  <a:pt x="20456" y="11849"/>
                  <a:pt x="20439" y="11857"/>
                </a:cubicBezTo>
              </a:path>
              <a:path w="1365" h="670">
                <a:moveTo>
                  <a:pt x="20712" y="11584"/>
                </a:moveTo>
                <a:cubicBezTo>
                  <a:pt x="20745" y="11584"/>
                  <a:pt x="20778" y="11584"/>
                  <a:pt x="20811" y="1158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9880" y="4098960"/>
            <a:ext cx="108000" cy="133200"/>
          </a:xfrm>
          <a:custGeom>
            <a:avLst/>
            <a:gdLst/>
            <a:ahLst/>
            <a:rect l="l" t="t" r="r" b="b"/>
            <a:pathLst>
              <a:path w="299" h="373">
                <a:moveTo>
                  <a:pt x="21134" y="11460"/>
                </a:moveTo>
                <a:cubicBezTo>
                  <a:pt x="21096" y="11516"/>
                  <a:pt x="21079" y="11519"/>
                  <a:pt x="21084" y="11559"/>
                </a:cubicBezTo>
                <a:cubicBezTo>
                  <a:pt x="21132" y="11575"/>
                  <a:pt x="21320" y="11605"/>
                  <a:pt x="21258" y="11708"/>
                </a:cubicBezTo>
                <a:cubicBezTo>
                  <a:pt x="21207" y="11758"/>
                  <a:pt x="21189" y="11774"/>
                  <a:pt x="21134" y="11757"/>
                </a:cubicBezTo>
              </a:path>
              <a:path w="299" h="373">
                <a:moveTo>
                  <a:pt x="21183" y="11435"/>
                </a:moveTo>
                <a:cubicBezTo>
                  <a:pt x="21282" y="11410"/>
                  <a:pt x="21316" y="11402"/>
                  <a:pt x="21382" y="1138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45200" y="4303800"/>
            <a:ext cx="714600" cy="438120"/>
          </a:xfrm>
          <a:custGeom>
            <a:avLst/>
            <a:gdLst/>
            <a:ahLst/>
            <a:rect l="l" t="t" r="r" b="b"/>
            <a:pathLst>
              <a:path w="1985" h="1216">
                <a:moveTo>
                  <a:pt x="19571" y="12129"/>
                </a:moveTo>
                <a:cubicBezTo>
                  <a:pt x="19586" y="12123"/>
                  <a:pt x="19896" y="12052"/>
                  <a:pt x="19844" y="12154"/>
                </a:cubicBezTo>
                <a:cubicBezTo>
                  <a:pt x="19777" y="12176"/>
                  <a:pt x="19759" y="12181"/>
                  <a:pt x="19720" y="12204"/>
                </a:cubicBezTo>
                <a:cubicBezTo>
                  <a:pt x="19782" y="12211"/>
                  <a:pt x="19817" y="12220"/>
                  <a:pt x="19869" y="12254"/>
                </a:cubicBezTo>
                <a:cubicBezTo>
                  <a:pt x="19766" y="12333"/>
                  <a:pt x="19787" y="12327"/>
                  <a:pt x="19670" y="12278"/>
                </a:cubicBezTo>
              </a:path>
              <a:path w="1985" h="1216">
                <a:moveTo>
                  <a:pt x="20042" y="12055"/>
                </a:moveTo>
                <a:cubicBezTo>
                  <a:pt x="20054" y="12090"/>
                  <a:pt x="20084" y="12288"/>
                  <a:pt x="20117" y="12303"/>
                </a:cubicBezTo>
                <a:cubicBezTo>
                  <a:pt x="20229" y="12352"/>
                  <a:pt x="20312" y="12289"/>
                  <a:pt x="20365" y="12204"/>
                </a:cubicBezTo>
                <a:cubicBezTo>
                  <a:pt x="20274" y="12232"/>
                  <a:pt x="20265" y="12237"/>
                  <a:pt x="20191" y="12278"/>
                </a:cubicBezTo>
              </a:path>
              <a:path w="1985" h="1216">
                <a:moveTo>
                  <a:pt x="20563" y="12179"/>
                </a:moveTo>
                <a:cubicBezTo>
                  <a:pt x="20611" y="12155"/>
                  <a:pt x="20625" y="12147"/>
                  <a:pt x="20662" y="12154"/>
                </a:cubicBezTo>
              </a:path>
              <a:path w="1985" h="1216">
                <a:moveTo>
                  <a:pt x="21034" y="11981"/>
                </a:moveTo>
                <a:cubicBezTo>
                  <a:pt x="20927" y="11954"/>
                  <a:pt x="20910" y="11998"/>
                  <a:pt x="20886" y="12105"/>
                </a:cubicBezTo>
                <a:cubicBezTo>
                  <a:pt x="20921" y="12095"/>
                  <a:pt x="21051" y="12044"/>
                  <a:pt x="21084" y="12105"/>
                </a:cubicBezTo>
                <a:cubicBezTo>
                  <a:pt x="21134" y="12197"/>
                  <a:pt x="21012" y="12198"/>
                  <a:pt x="20960" y="12204"/>
                </a:cubicBezTo>
              </a:path>
              <a:path w="1985" h="1216">
                <a:moveTo>
                  <a:pt x="20290" y="12526"/>
                </a:moveTo>
                <a:cubicBezTo>
                  <a:pt x="20328" y="12526"/>
                  <a:pt x="20614" y="12478"/>
                  <a:pt x="20563" y="12601"/>
                </a:cubicBezTo>
                <a:cubicBezTo>
                  <a:pt x="20489" y="12650"/>
                  <a:pt x="20464" y="12667"/>
                  <a:pt x="20414" y="12700"/>
                </a:cubicBezTo>
                <a:cubicBezTo>
                  <a:pt x="20346" y="12664"/>
                  <a:pt x="20528" y="12688"/>
                  <a:pt x="20588" y="12774"/>
                </a:cubicBezTo>
                <a:cubicBezTo>
                  <a:pt x="20513" y="12903"/>
                  <a:pt x="20472" y="12962"/>
                  <a:pt x="20340" y="12874"/>
                </a:cubicBezTo>
              </a:path>
              <a:path w="1985" h="1216">
                <a:moveTo>
                  <a:pt x="20910" y="12452"/>
                </a:moveTo>
                <a:cubicBezTo>
                  <a:pt x="20983" y="12625"/>
                  <a:pt x="21010" y="12735"/>
                  <a:pt x="21010" y="12923"/>
                </a:cubicBezTo>
                <a:cubicBezTo>
                  <a:pt x="21010" y="12940"/>
                  <a:pt x="21010" y="12956"/>
                  <a:pt x="21010" y="12973"/>
                </a:cubicBezTo>
              </a:path>
              <a:path w="1985" h="1216">
                <a:moveTo>
                  <a:pt x="20191" y="12998"/>
                </a:moveTo>
                <a:cubicBezTo>
                  <a:pt x="20368" y="13116"/>
                  <a:pt x="20460" y="13155"/>
                  <a:pt x="20687" y="13171"/>
                </a:cubicBezTo>
                <a:cubicBezTo>
                  <a:pt x="20937" y="13188"/>
                  <a:pt x="21137" y="13142"/>
                  <a:pt x="21357" y="13047"/>
                </a:cubicBezTo>
                <a:cubicBezTo>
                  <a:pt x="21503" y="12984"/>
                  <a:pt x="21571" y="12936"/>
                  <a:pt x="21530" y="12774"/>
                </a:cubicBezTo>
                <a:cubicBezTo>
                  <a:pt x="21494" y="12631"/>
                  <a:pt x="21346" y="12578"/>
                  <a:pt x="21233" y="12502"/>
                </a:cubicBezTo>
                <a:cubicBezTo>
                  <a:pt x="21112" y="12420"/>
                  <a:pt x="21001" y="12388"/>
                  <a:pt x="20861" y="12353"/>
                </a:cubicBezTo>
                <a:cubicBezTo>
                  <a:pt x="20726" y="12319"/>
                  <a:pt x="20599" y="12347"/>
                  <a:pt x="20464" y="12328"/>
                </a:cubicBezTo>
                <a:cubicBezTo>
                  <a:pt x="20353" y="12312"/>
                  <a:pt x="20197" y="12312"/>
                  <a:pt x="20092" y="12378"/>
                </a:cubicBezTo>
                <a:cubicBezTo>
                  <a:pt x="19972" y="12454"/>
                  <a:pt x="19925" y="12596"/>
                  <a:pt x="19918" y="12725"/>
                </a:cubicBezTo>
                <a:cubicBezTo>
                  <a:pt x="19911" y="12856"/>
                  <a:pt x="19944" y="12930"/>
                  <a:pt x="20067" y="12998"/>
                </a:cubicBezTo>
                <a:cubicBezTo>
                  <a:pt x="20092" y="13006"/>
                  <a:pt x="20116" y="13014"/>
                  <a:pt x="20141" y="130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91200" y="4732200"/>
            <a:ext cx="482760" cy="206640"/>
          </a:xfrm>
          <a:custGeom>
            <a:avLst/>
            <a:gdLst/>
            <a:ahLst/>
            <a:rect l="l" t="t" r="r" b="b"/>
            <a:pathLst>
              <a:path w="1341" h="572">
                <a:moveTo>
                  <a:pt x="19447" y="13345"/>
                </a:moveTo>
                <a:cubicBezTo>
                  <a:pt x="19408" y="13450"/>
                  <a:pt x="19445" y="13492"/>
                  <a:pt x="19571" y="13469"/>
                </a:cubicBezTo>
                <a:cubicBezTo>
                  <a:pt x="19588" y="13461"/>
                  <a:pt x="19604" y="13452"/>
                  <a:pt x="19621" y="13444"/>
                </a:cubicBezTo>
              </a:path>
              <a:path w="1341" h="572">
                <a:moveTo>
                  <a:pt x="19670" y="13271"/>
                </a:moveTo>
                <a:cubicBezTo>
                  <a:pt x="19650" y="13364"/>
                  <a:pt x="19645" y="13446"/>
                  <a:pt x="19645" y="13543"/>
                </a:cubicBezTo>
              </a:path>
              <a:path w="1341" h="572">
                <a:moveTo>
                  <a:pt x="19893" y="13146"/>
                </a:moveTo>
                <a:cubicBezTo>
                  <a:pt x="19829" y="13359"/>
                  <a:pt x="19799" y="13489"/>
                  <a:pt x="19893" y="13692"/>
                </a:cubicBezTo>
              </a:path>
              <a:path w="1341" h="572">
                <a:moveTo>
                  <a:pt x="20067" y="13320"/>
                </a:moveTo>
                <a:cubicBezTo>
                  <a:pt x="20202" y="13374"/>
                  <a:pt x="20171" y="13403"/>
                  <a:pt x="20067" y="13494"/>
                </a:cubicBezTo>
                <a:cubicBezTo>
                  <a:pt x="20153" y="13509"/>
                  <a:pt x="20153" y="13506"/>
                  <a:pt x="20216" y="13568"/>
                </a:cubicBezTo>
                <a:cubicBezTo>
                  <a:pt x="20145" y="13663"/>
                  <a:pt x="20136" y="13651"/>
                  <a:pt x="20017" y="13667"/>
                </a:cubicBezTo>
              </a:path>
              <a:path w="1341" h="572">
                <a:moveTo>
                  <a:pt x="20265" y="13345"/>
                </a:moveTo>
                <a:cubicBezTo>
                  <a:pt x="20299" y="13376"/>
                  <a:pt x="20494" y="13505"/>
                  <a:pt x="20489" y="13543"/>
                </a:cubicBezTo>
                <a:cubicBezTo>
                  <a:pt x="20457" y="13607"/>
                  <a:pt x="20434" y="13627"/>
                  <a:pt x="20365" y="13618"/>
                </a:cubicBezTo>
              </a:path>
              <a:path w="1341" h="572">
                <a:moveTo>
                  <a:pt x="20365" y="13345"/>
                </a:moveTo>
                <a:cubicBezTo>
                  <a:pt x="20398" y="13328"/>
                  <a:pt x="20431" y="13312"/>
                  <a:pt x="20464" y="13295"/>
                </a:cubicBezTo>
              </a:path>
              <a:path w="1341" h="572">
                <a:moveTo>
                  <a:pt x="20489" y="13146"/>
                </a:moveTo>
                <a:cubicBezTo>
                  <a:pt x="20693" y="13194"/>
                  <a:pt x="20788" y="13344"/>
                  <a:pt x="20762" y="13568"/>
                </a:cubicBezTo>
                <a:cubicBezTo>
                  <a:pt x="20722" y="13668"/>
                  <a:pt x="20728" y="13698"/>
                  <a:pt x="20662" y="137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81960" y="4741920"/>
            <a:ext cx="177840" cy="13320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21059" y="13370"/>
                </a:moveTo>
                <a:lnTo>
                  <a:pt x="21059" y="13370"/>
                </a:lnTo>
              </a:path>
              <a:path w="497" h="373">
                <a:moveTo>
                  <a:pt x="21258" y="13271"/>
                </a:moveTo>
                <a:cubicBezTo>
                  <a:pt x="21282" y="13356"/>
                  <a:pt x="21382" y="13351"/>
                  <a:pt x="21406" y="13444"/>
                </a:cubicBezTo>
                <a:cubicBezTo>
                  <a:pt x="21432" y="13546"/>
                  <a:pt x="21376" y="13535"/>
                  <a:pt x="21307" y="13543"/>
                </a:cubicBezTo>
              </a:path>
              <a:path w="497" h="373">
                <a:moveTo>
                  <a:pt x="21282" y="13221"/>
                </a:moveTo>
                <a:cubicBezTo>
                  <a:pt x="21375" y="13201"/>
                  <a:pt x="21463" y="13191"/>
                  <a:pt x="21555" y="131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34120" y="4956120"/>
            <a:ext cx="662040" cy="482760"/>
          </a:xfrm>
          <a:custGeom>
            <a:avLst/>
            <a:gdLst/>
            <a:ahLst/>
            <a:rect l="l" t="t" r="r" b="b"/>
            <a:pathLst>
              <a:path w="1836" h="1340">
                <a:moveTo>
                  <a:pt x="19869" y="14015"/>
                </a:moveTo>
                <a:cubicBezTo>
                  <a:pt x="19843" y="14133"/>
                  <a:pt x="19826" y="14242"/>
                  <a:pt x="19819" y="14362"/>
                </a:cubicBezTo>
              </a:path>
              <a:path w="1836" h="1340">
                <a:moveTo>
                  <a:pt x="19993" y="14015"/>
                </a:moveTo>
                <a:cubicBezTo>
                  <a:pt x="19993" y="14072"/>
                  <a:pt x="19972" y="14186"/>
                  <a:pt x="20067" y="14163"/>
                </a:cubicBezTo>
                <a:cubicBezTo>
                  <a:pt x="20174" y="14121"/>
                  <a:pt x="20198" y="14110"/>
                  <a:pt x="20265" y="14089"/>
                </a:cubicBezTo>
              </a:path>
              <a:path w="1836" h="1340">
                <a:moveTo>
                  <a:pt x="20191" y="13940"/>
                </a:moveTo>
                <a:cubicBezTo>
                  <a:pt x="20191" y="14059"/>
                  <a:pt x="20201" y="14146"/>
                  <a:pt x="20216" y="14263"/>
                </a:cubicBezTo>
              </a:path>
              <a:path w="1836" h="1340">
                <a:moveTo>
                  <a:pt x="20489" y="13940"/>
                </a:moveTo>
                <a:cubicBezTo>
                  <a:pt x="20388" y="14079"/>
                  <a:pt x="20367" y="14088"/>
                  <a:pt x="20389" y="14263"/>
                </a:cubicBezTo>
                <a:cubicBezTo>
                  <a:pt x="20524" y="14247"/>
                  <a:pt x="20777" y="14197"/>
                  <a:pt x="20662" y="13990"/>
                </a:cubicBezTo>
                <a:cubicBezTo>
                  <a:pt x="20637" y="13973"/>
                  <a:pt x="20613" y="13957"/>
                  <a:pt x="20588" y="13940"/>
                </a:cubicBezTo>
              </a:path>
              <a:path w="1836" h="1340">
                <a:moveTo>
                  <a:pt x="20935" y="14015"/>
                </a:moveTo>
                <a:cubicBezTo>
                  <a:pt x="20985" y="14015"/>
                  <a:pt x="21001" y="14015"/>
                  <a:pt x="21034" y="14015"/>
                </a:cubicBezTo>
              </a:path>
              <a:path w="1836" h="1340">
                <a:moveTo>
                  <a:pt x="21282" y="13841"/>
                </a:moveTo>
                <a:cubicBezTo>
                  <a:pt x="21299" y="13881"/>
                  <a:pt x="21499" y="13909"/>
                  <a:pt x="21506" y="13990"/>
                </a:cubicBezTo>
                <a:cubicBezTo>
                  <a:pt x="21519" y="14139"/>
                  <a:pt x="21355" y="14094"/>
                  <a:pt x="21282" y="14089"/>
                </a:cubicBezTo>
              </a:path>
              <a:path w="1836" h="1340">
                <a:moveTo>
                  <a:pt x="21357" y="13767"/>
                </a:moveTo>
                <a:cubicBezTo>
                  <a:pt x="21398" y="13767"/>
                  <a:pt x="21440" y="13767"/>
                  <a:pt x="21481" y="13767"/>
                </a:cubicBezTo>
              </a:path>
              <a:path w="1836" h="1340">
                <a:moveTo>
                  <a:pt x="20290" y="14387"/>
                </a:moveTo>
                <a:cubicBezTo>
                  <a:pt x="20290" y="14308"/>
                  <a:pt x="20293" y="14682"/>
                  <a:pt x="20290" y="14709"/>
                </a:cubicBezTo>
                <a:cubicBezTo>
                  <a:pt x="20282" y="14734"/>
                  <a:pt x="20273" y="14759"/>
                  <a:pt x="20265" y="14784"/>
                </a:cubicBezTo>
              </a:path>
              <a:path w="1836" h="1340">
                <a:moveTo>
                  <a:pt x="20439" y="14387"/>
                </a:moveTo>
                <a:cubicBezTo>
                  <a:pt x="20508" y="14371"/>
                  <a:pt x="20699" y="14308"/>
                  <a:pt x="20687" y="14436"/>
                </a:cubicBezTo>
                <a:cubicBezTo>
                  <a:pt x="20660" y="14518"/>
                  <a:pt x="20644" y="14545"/>
                  <a:pt x="20563" y="14536"/>
                </a:cubicBezTo>
                <a:cubicBezTo>
                  <a:pt x="20657" y="14528"/>
                  <a:pt x="20855" y="14552"/>
                  <a:pt x="20762" y="14709"/>
                </a:cubicBezTo>
                <a:cubicBezTo>
                  <a:pt x="20689" y="14782"/>
                  <a:pt x="20666" y="14807"/>
                  <a:pt x="20588" y="14784"/>
                </a:cubicBezTo>
              </a:path>
              <a:path w="1836" h="1340">
                <a:moveTo>
                  <a:pt x="21109" y="14362"/>
                </a:moveTo>
                <a:cubicBezTo>
                  <a:pt x="21013" y="14336"/>
                  <a:pt x="20962" y="14317"/>
                  <a:pt x="20935" y="14436"/>
                </a:cubicBezTo>
                <a:cubicBezTo>
                  <a:pt x="20935" y="14453"/>
                  <a:pt x="20935" y="14469"/>
                  <a:pt x="20935" y="14486"/>
                </a:cubicBezTo>
                <a:cubicBezTo>
                  <a:pt x="21010" y="14500"/>
                  <a:pt x="21168" y="14475"/>
                  <a:pt x="21233" y="14536"/>
                </a:cubicBezTo>
                <a:cubicBezTo>
                  <a:pt x="21396" y="14690"/>
                  <a:pt x="21075" y="14713"/>
                  <a:pt x="21010" y="14709"/>
                </a:cubicBezTo>
              </a:path>
              <a:path w="1836" h="1340">
                <a:moveTo>
                  <a:pt x="19869" y="15056"/>
                </a:moveTo>
                <a:cubicBezTo>
                  <a:pt x="20065" y="15096"/>
                  <a:pt x="20238" y="15106"/>
                  <a:pt x="20439" y="15106"/>
                </a:cubicBezTo>
                <a:cubicBezTo>
                  <a:pt x="20693" y="15106"/>
                  <a:pt x="20913" y="15104"/>
                  <a:pt x="21158" y="15032"/>
                </a:cubicBezTo>
                <a:cubicBezTo>
                  <a:pt x="21297" y="14991"/>
                  <a:pt x="21489" y="14930"/>
                  <a:pt x="21580" y="14808"/>
                </a:cubicBezTo>
                <a:cubicBezTo>
                  <a:pt x="21652" y="14712"/>
                  <a:pt x="21675" y="14596"/>
                  <a:pt x="21630" y="14486"/>
                </a:cubicBezTo>
                <a:cubicBezTo>
                  <a:pt x="21563" y="14321"/>
                  <a:pt x="21391" y="14248"/>
                  <a:pt x="21233" y="14188"/>
                </a:cubicBezTo>
                <a:cubicBezTo>
                  <a:pt x="21032" y="14112"/>
                  <a:pt x="20852" y="14068"/>
                  <a:pt x="20638" y="14064"/>
                </a:cubicBezTo>
                <a:cubicBezTo>
                  <a:pt x="20407" y="14060"/>
                  <a:pt x="20158" y="14139"/>
                  <a:pt x="20017" y="14337"/>
                </a:cubicBezTo>
                <a:cubicBezTo>
                  <a:pt x="19886" y="14521"/>
                  <a:pt x="19929" y="14633"/>
                  <a:pt x="19993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66000" y="5357880"/>
            <a:ext cx="820800" cy="206280"/>
          </a:xfrm>
          <a:custGeom>
            <a:avLst/>
            <a:gdLst/>
            <a:ahLst/>
            <a:rect l="l" t="t" r="r" b="b"/>
            <a:pathLst>
              <a:path w="2283" h="571">
                <a:moveTo>
                  <a:pt x="19447" y="15081"/>
                </a:moveTo>
                <a:cubicBezTo>
                  <a:pt x="19429" y="15161"/>
                  <a:pt x="19386" y="15227"/>
                  <a:pt x="19348" y="15304"/>
                </a:cubicBezTo>
                <a:cubicBezTo>
                  <a:pt x="19422" y="15304"/>
                  <a:pt x="19497" y="15304"/>
                  <a:pt x="19571" y="15304"/>
                </a:cubicBezTo>
              </a:path>
              <a:path w="2283" h="571">
                <a:moveTo>
                  <a:pt x="19621" y="15081"/>
                </a:moveTo>
                <a:cubicBezTo>
                  <a:pt x="19611" y="15190"/>
                  <a:pt x="19602" y="15302"/>
                  <a:pt x="19571" y="15404"/>
                </a:cubicBezTo>
              </a:path>
              <a:path w="2283" h="571">
                <a:moveTo>
                  <a:pt x="19844" y="14908"/>
                </a:moveTo>
                <a:cubicBezTo>
                  <a:pt x="19819" y="15056"/>
                  <a:pt x="19768" y="15198"/>
                  <a:pt x="19794" y="15354"/>
                </a:cubicBezTo>
                <a:cubicBezTo>
                  <a:pt x="19809" y="15444"/>
                  <a:pt x="19897" y="15453"/>
                  <a:pt x="19968" y="15453"/>
                </a:cubicBezTo>
              </a:path>
              <a:path w="2283" h="571">
                <a:moveTo>
                  <a:pt x="20017" y="15106"/>
                </a:moveTo>
                <a:cubicBezTo>
                  <a:pt x="20003" y="15202"/>
                  <a:pt x="20005" y="15279"/>
                  <a:pt x="19993" y="15379"/>
                </a:cubicBezTo>
              </a:path>
              <a:path w="2283" h="571">
                <a:moveTo>
                  <a:pt x="20191" y="15131"/>
                </a:moveTo>
                <a:cubicBezTo>
                  <a:pt x="20101" y="15209"/>
                  <a:pt x="20068" y="15265"/>
                  <a:pt x="20117" y="15379"/>
                </a:cubicBezTo>
                <a:cubicBezTo>
                  <a:pt x="20254" y="15356"/>
                  <a:pt x="20352" y="15294"/>
                  <a:pt x="20290" y="15131"/>
                </a:cubicBezTo>
                <a:cubicBezTo>
                  <a:pt x="20247" y="15131"/>
                  <a:pt x="20222" y="15125"/>
                  <a:pt x="20191" y="15106"/>
                </a:cubicBezTo>
              </a:path>
              <a:path w="2283" h="571">
                <a:moveTo>
                  <a:pt x="20439" y="15056"/>
                </a:moveTo>
                <a:cubicBezTo>
                  <a:pt x="20365" y="15093"/>
                  <a:pt x="20360" y="15084"/>
                  <a:pt x="20340" y="15156"/>
                </a:cubicBezTo>
                <a:cubicBezTo>
                  <a:pt x="20410" y="15181"/>
                  <a:pt x="20588" y="15192"/>
                  <a:pt x="20588" y="15304"/>
                </a:cubicBezTo>
                <a:cubicBezTo>
                  <a:pt x="20560" y="15361"/>
                  <a:pt x="20544" y="15380"/>
                  <a:pt x="20489" y="15379"/>
                </a:cubicBezTo>
                <a:cubicBezTo>
                  <a:pt x="20417" y="15331"/>
                  <a:pt x="20543" y="15232"/>
                  <a:pt x="20563" y="15156"/>
                </a:cubicBezTo>
                <a:cubicBezTo>
                  <a:pt x="20563" y="15090"/>
                  <a:pt x="20563" y="15073"/>
                  <a:pt x="20563" y="15032"/>
                </a:cubicBezTo>
              </a:path>
              <a:path w="2283" h="571">
                <a:moveTo>
                  <a:pt x="20638" y="14883"/>
                </a:moveTo>
                <a:cubicBezTo>
                  <a:pt x="20755" y="15024"/>
                  <a:pt x="20876" y="15184"/>
                  <a:pt x="20786" y="15379"/>
                </a:cubicBezTo>
                <a:cubicBezTo>
                  <a:pt x="20761" y="15404"/>
                  <a:pt x="20737" y="15428"/>
                  <a:pt x="20712" y="15453"/>
                </a:cubicBezTo>
              </a:path>
              <a:path w="2283" h="571">
                <a:moveTo>
                  <a:pt x="20960" y="15205"/>
                </a:moveTo>
                <a:cubicBezTo>
                  <a:pt x="21015" y="15177"/>
                  <a:pt x="21038" y="15169"/>
                  <a:pt x="21084" y="15180"/>
                </a:cubicBezTo>
              </a:path>
              <a:path w="2283" h="571">
                <a:moveTo>
                  <a:pt x="21307" y="15056"/>
                </a:moveTo>
                <a:cubicBezTo>
                  <a:pt x="21299" y="15073"/>
                  <a:pt x="21290" y="15089"/>
                  <a:pt x="21282" y="15106"/>
                </a:cubicBezTo>
                <a:cubicBezTo>
                  <a:pt x="21327" y="15130"/>
                  <a:pt x="21517" y="15175"/>
                  <a:pt x="21481" y="15255"/>
                </a:cubicBezTo>
                <a:cubicBezTo>
                  <a:pt x="21429" y="15332"/>
                  <a:pt x="21409" y="15356"/>
                  <a:pt x="21332" y="15329"/>
                </a:cubicBezTo>
              </a:path>
              <a:path w="2283" h="571">
                <a:moveTo>
                  <a:pt x="21382" y="15007"/>
                </a:moveTo>
                <a:cubicBezTo>
                  <a:pt x="21506" y="14982"/>
                  <a:pt x="21547" y="14974"/>
                  <a:pt x="21630" y="149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54920" y="5562720"/>
            <a:ext cx="776160" cy="474480"/>
          </a:xfrm>
          <a:custGeom>
            <a:avLst/>
            <a:gdLst/>
            <a:ahLst/>
            <a:rect l="l" t="t" r="r" b="b"/>
            <a:pathLst>
              <a:path w="2159" h="1316">
                <a:moveTo>
                  <a:pt x="19645" y="15677"/>
                </a:moveTo>
                <a:cubicBezTo>
                  <a:pt x="19610" y="15712"/>
                  <a:pt x="19598" y="15734"/>
                  <a:pt x="19596" y="15776"/>
                </a:cubicBezTo>
                <a:cubicBezTo>
                  <a:pt x="19708" y="15807"/>
                  <a:pt x="19775" y="15794"/>
                  <a:pt x="19893" y="15776"/>
                </a:cubicBezTo>
              </a:path>
              <a:path w="2159" h="1316">
                <a:moveTo>
                  <a:pt x="19943" y="15577"/>
                </a:moveTo>
                <a:cubicBezTo>
                  <a:pt x="19905" y="15702"/>
                  <a:pt x="19874" y="15822"/>
                  <a:pt x="19844" y="15949"/>
                </a:cubicBezTo>
              </a:path>
              <a:path w="2159" h="1316">
                <a:moveTo>
                  <a:pt x="20141" y="15652"/>
                </a:moveTo>
                <a:cubicBezTo>
                  <a:pt x="20117" y="15627"/>
                  <a:pt x="20109" y="15619"/>
                  <a:pt x="20141" y="15602"/>
                </a:cubicBezTo>
                <a:cubicBezTo>
                  <a:pt x="20301" y="15625"/>
                  <a:pt x="20154" y="15742"/>
                  <a:pt x="20166" y="15751"/>
                </a:cubicBezTo>
                <a:cubicBezTo>
                  <a:pt x="20191" y="15751"/>
                  <a:pt x="20216" y="15751"/>
                  <a:pt x="20241" y="15751"/>
                </a:cubicBezTo>
                <a:cubicBezTo>
                  <a:pt x="20220" y="15896"/>
                  <a:pt x="20199" y="15938"/>
                  <a:pt x="20067" y="15850"/>
                </a:cubicBezTo>
              </a:path>
              <a:path w="2159" h="1316">
                <a:moveTo>
                  <a:pt x="20365" y="15677"/>
                </a:moveTo>
                <a:cubicBezTo>
                  <a:pt x="20435" y="15630"/>
                  <a:pt x="20454" y="15613"/>
                  <a:pt x="20513" y="15627"/>
                </a:cubicBezTo>
                <a:cubicBezTo>
                  <a:pt x="20497" y="15722"/>
                  <a:pt x="20338" y="15793"/>
                  <a:pt x="20389" y="15875"/>
                </a:cubicBezTo>
                <a:cubicBezTo>
                  <a:pt x="20448" y="15875"/>
                  <a:pt x="20474" y="15872"/>
                  <a:pt x="20513" y="15850"/>
                </a:cubicBezTo>
              </a:path>
              <a:path w="2159" h="1316">
                <a:moveTo>
                  <a:pt x="20811" y="15701"/>
                </a:moveTo>
                <a:cubicBezTo>
                  <a:pt x="20861" y="15701"/>
                  <a:pt x="20910" y="15701"/>
                  <a:pt x="20960" y="15701"/>
                </a:cubicBezTo>
              </a:path>
              <a:path w="2159" h="1316">
                <a:moveTo>
                  <a:pt x="21158" y="15577"/>
                </a:moveTo>
                <a:cubicBezTo>
                  <a:pt x="21210" y="15646"/>
                  <a:pt x="21333" y="15586"/>
                  <a:pt x="21357" y="15701"/>
                </a:cubicBezTo>
                <a:cubicBezTo>
                  <a:pt x="21329" y="15758"/>
                  <a:pt x="21313" y="15777"/>
                  <a:pt x="21258" y="15776"/>
                </a:cubicBezTo>
              </a:path>
              <a:path w="2159" h="1316">
                <a:moveTo>
                  <a:pt x="21258" y="15528"/>
                </a:moveTo>
                <a:cubicBezTo>
                  <a:pt x="21347" y="15483"/>
                  <a:pt x="21370" y="15470"/>
                  <a:pt x="21431" y="15453"/>
                </a:cubicBezTo>
              </a:path>
              <a:path w="2159" h="1316">
                <a:moveTo>
                  <a:pt x="20315" y="16049"/>
                </a:moveTo>
                <a:cubicBezTo>
                  <a:pt x="20315" y="16156"/>
                  <a:pt x="20305" y="16206"/>
                  <a:pt x="20241" y="16297"/>
                </a:cubicBezTo>
                <a:cubicBezTo>
                  <a:pt x="20337" y="16311"/>
                  <a:pt x="20412" y="16303"/>
                  <a:pt x="20513" y="16297"/>
                </a:cubicBezTo>
              </a:path>
              <a:path w="2159" h="1316">
                <a:moveTo>
                  <a:pt x="20513" y="16024"/>
                </a:moveTo>
                <a:cubicBezTo>
                  <a:pt x="20482" y="16189"/>
                  <a:pt x="20450" y="16353"/>
                  <a:pt x="20439" y="16520"/>
                </a:cubicBezTo>
              </a:path>
              <a:path w="2159" h="1316">
                <a:moveTo>
                  <a:pt x="20687" y="16173"/>
                </a:moveTo>
                <a:cubicBezTo>
                  <a:pt x="20706" y="16117"/>
                  <a:pt x="20732" y="16103"/>
                  <a:pt x="20811" y="16098"/>
                </a:cubicBezTo>
                <a:cubicBezTo>
                  <a:pt x="20903" y="16092"/>
                  <a:pt x="20886" y="16219"/>
                  <a:pt x="20836" y="16272"/>
                </a:cubicBezTo>
                <a:cubicBezTo>
                  <a:pt x="20774" y="16338"/>
                  <a:pt x="20693" y="16402"/>
                  <a:pt x="20638" y="16470"/>
                </a:cubicBezTo>
                <a:cubicBezTo>
                  <a:pt x="20621" y="16495"/>
                  <a:pt x="20605" y="16520"/>
                  <a:pt x="20588" y="16545"/>
                </a:cubicBezTo>
                <a:cubicBezTo>
                  <a:pt x="20649" y="16499"/>
                  <a:pt x="20724" y="16453"/>
                  <a:pt x="20811" y="16470"/>
                </a:cubicBezTo>
                <a:cubicBezTo>
                  <a:pt x="20854" y="16478"/>
                  <a:pt x="20891" y="16511"/>
                  <a:pt x="20935" y="16520"/>
                </a:cubicBezTo>
              </a:path>
              <a:path w="2159" h="1316">
                <a:moveTo>
                  <a:pt x="21010" y="16148"/>
                </a:moveTo>
                <a:cubicBezTo>
                  <a:pt x="21090" y="16148"/>
                  <a:pt x="21156" y="16141"/>
                  <a:pt x="21233" y="16123"/>
                </a:cubicBezTo>
                <a:cubicBezTo>
                  <a:pt x="21227" y="16258"/>
                  <a:pt x="21214" y="16364"/>
                  <a:pt x="21183" y="16495"/>
                </a:cubicBezTo>
              </a:path>
              <a:path w="2159" h="1316">
                <a:moveTo>
                  <a:pt x="20365" y="16743"/>
                </a:moveTo>
                <a:cubicBezTo>
                  <a:pt x="20503" y="16790"/>
                  <a:pt x="20663" y="16768"/>
                  <a:pt x="20811" y="16768"/>
                </a:cubicBezTo>
                <a:cubicBezTo>
                  <a:pt x="21024" y="16768"/>
                  <a:pt x="21258" y="16793"/>
                  <a:pt x="21456" y="16694"/>
                </a:cubicBezTo>
                <a:cubicBezTo>
                  <a:pt x="21602" y="16621"/>
                  <a:pt x="21737" y="16481"/>
                  <a:pt x="21754" y="16321"/>
                </a:cubicBezTo>
                <a:cubicBezTo>
                  <a:pt x="21767" y="16200"/>
                  <a:pt x="21653" y="16128"/>
                  <a:pt x="21580" y="16049"/>
                </a:cubicBezTo>
                <a:cubicBezTo>
                  <a:pt x="21484" y="15945"/>
                  <a:pt x="21443" y="15949"/>
                  <a:pt x="21307" y="15949"/>
                </a:cubicBezTo>
                <a:cubicBezTo>
                  <a:pt x="21105" y="15949"/>
                  <a:pt x="20910" y="15957"/>
                  <a:pt x="20712" y="15974"/>
                </a:cubicBezTo>
                <a:cubicBezTo>
                  <a:pt x="20530" y="15990"/>
                  <a:pt x="20342" y="15946"/>
                  <a:pt x="20166" y="15999"/>
                </a:cubicBezTo>
                <a:cubicBezTo>
                  <a:pt x="20095" y="16020"/>
                  <a:pt x="19996" y="16042"/>
                  <a:pt x="19943" y="16098"/>
                </a:cubicBezTo>
                <a:cubicBezTo>
                  <a:pt x="19853" y="16192"/>
                  <a:pt x="19866" y="16330"/>
                  <a:pt x="19893" y="16446"/>
                </a:cubicBezTo>
                <a:cubicBezTo>
                  <a:pt x="19927" y="16594"/>
                  <a:pt x="20175" y="16611"/>
                  <a:pt x="20290" y="16619"/>
                </a:cubicBezTo>
                <a:cubicBezTo>
                  <a:pt x="20421" y="16628"/>
                  <a:pt x="20556" y="16619"/>
                  <a:pt x="20687" y="166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70280" y="4241880"/>
            <a:ext cx="17640" cy="63360"/>
          </a:xfrm>
          <a:custGeom>
            <a:avLst/>
            <a:gdLst/>
            <a:ahLst/>
            <a:rect l="l" t="t" r="r" b="b"/>
            <a:pathLst>
              <a:path w="50" h="175">
                <a:moveTo>
                  <a:pt x="12973" y="11782"/>
                </a:moveTo>
                <a:cubicBezTo>
                  <a:pt x="12982" y="11851"/>
                  <a:pt x="13013" y="11891"/>
                  <a:pt x="13022" y="1195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49840" y="4224240"/>
            <a:ext cx="90360" cy="61920"/>
          </a:xfrm>
          <a:custGeom>
            <a:avLst/>
            <a:gdLst/>
            <a:ahLst/>
            <a:rect l="l" t="t" r="r" b="b"/>
            <a:pathLst>
              <a:path w="249" h="174">
                <a:moveTo>
                  <a:pt x="13196" y="11757"/>
                </a:moveTo>
                <a:cubicBezTo>
                  <a:pt x="13245" y="11729"/>
                  <a:pt x="13316" y="11716"/>
                  <a:pt x="13295" y="11807"/>
                </a:cubicBezTo>
                <a:cubicBezTo>
                  <a:pt x="13271" y="11857"/>
                  <a:pt x="13263" y="11873"/>
                  <a:pt x="13246" y="11906"/>
                </a:cubicBezTo>
                <a:cubicBezTo>
                  <a:pt x="13315" y="11898"/>
                  <a:pt x="13374" y="11881"/>
                  <a:pt x="13444" y="118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760" y="4205160"/>
            <a:ext cx="9036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13667" y="11683"/>
                </a:moveTo>
                <a:cubicBezTo>
                  <a:pt x="13750" y="11683"/>
                  <a:pt x="13832" y="11683"/>
                  <a:pt x="13915" y="116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64040" y="41608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791" y="11559"/>
                </a:moveTo>
                <a:lnTo>
                  <a:pt x="13791" y="1155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91040" y="4249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866" y="11807"/>
                </a:moveTo>
                <a:lnTo>
                  <a:pt x="13866" y="1180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89680" y="4152960"/>
            <a:ext cx="9036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4139" y="11584"/>
                </a:moveTo>
                <a:cubicBezTo>
                  <a:pt x="14220" y="11543"/>
                  <a:pt x="14233" y="11526"/>
                  <a:pt x="14288" y="11534"/>
                </a:cubicBezTo>
                <a:cubicBezTo>
                  <a:pt x="14296" y="11666"/>
                  <a:pt x="14303" y="11657"/>
                  <a:pt x="14213" y="11757"/>
                </a:cubicBezTo>
                <a:cubicBezTo>
                  <a:pt x="14295" y="11771"/>
                  <a:pt x="14306" y="11771"/>
                  <a:pt x="14387" y="1175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46760" y="4384800"/>
            <a:ext cx="260280" cy="196560"/>
          </a:xfrm>
          <a:custGeom>
            <a:avLst/>
            <a:gdLst/>
            <a:ahLst/>
            <a:rect l="l" t="t" r="r" b="b"/>
            <a:pathLst>
              <a:path w="720" h="547">
                <a:moveTo>
                  <a:pt x="13841" y="12179"/>
                </a:moveTo>
                <a:cubicBezTo>
                  <a:pt x="13841" y="12300"/>
                  <a:pt x="13804" y="12387"/>
                  <a:pt x="13767" y="12502"/>
                </a:cubicBezTo>
                <a:cubicBezTo>
                  <a:pt x="13727" y="12626"/>
                  <a:pt x="13750" y="12661"/>
                  <a:pt x="13891" y="12700"/>
                </a:cubicBezTo>
                <a:cubicBezTo>
                  <a:pt x="14055" y="12745"/>
                  <a:pt x="14282" y="12726"/>
                  <a:pt x="14412" y="12601"/>
                </a:cubicBezTo>
                <a:cubicBezTo>
                  <a:pt x="14493" y="12523"/>
                  <a:pt x="14451" y="12418"/>
                  <a:pt x="14362" y="12378"/>
                </a:cubicBezTo>
                <a:cubicBezTo>
                  <a:pt x="14253" y="12329"/>
                  <a:pt x="14187" y="12446"/>
                  <a:pt x="14163" y="12551"/>
                </a:cubicBezTo>
                <a:cubicBezTo>
                  <a:pt x="14163" y="12642"/>
                  <a:pt x="14163" y="12667"/>
                  <a:pt x="14163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30840" y="4367160"/>
            <a:ext cx="519120" cy="312840"/>
          </a:xfrm>
          <a:custGeom>
            <a:avLst/>
            <a:gdLst/>
            <a:ahLst/>
            <a:rect l="l" t="t" r="r" b="b"/>
            <a:pathLst>
              <a:path w="1440" h="870">
                <a:moveTo>
                  <a:pt x="13618" y="12948"/>
                </a:moveTo>
                <a:cubicBezTo>
                  <a:pt x="13832" y="12996"/>
                  <a:pt x="13997" y="12983"/>
                  <a:pt x="14213" y="12973"/>
                </a:cubicBezTo>
                <a:cubicBezTo>
                  <a:pt x="14436" y="12962"/>
                  <a:pt x="14614" y="12969"/>
                  <a:pt x="14784" y="12799"/>
                </a:cubicBezTo>
                <a:cubicBezTo>
                  <a:pt x="14883" y="12700"/>
                  <a:pt x="14881" y="12522"/>
                  <a:pt x="14808" y="12402"/>
                </a:cubicBezTo>
                <a:cubicBezTo>
                  <a:pt x="14740" y="12291"/>
                  <a:pt x="14604" y="12238"/>
                  <a:pt x="14486" y="12204"/>
                </a:cubicBezTo>
                <a:cubicBezTo>
                  <a:pt x="14347" y="12165"/>
                  <a:pt x="14234" y="12154"/>
                  <a:pt x="14089" y="12154"/>
                </a:cubicBezTo>
                <a:cubicBezTo>
                  <a:pt x="13945" y="12154"/>
                  <a:pt x="13833" y="12135"/>
                  <a:pt x="13692" y="12154"/>
                </a:cubicBezTo>
                <a:cubicBezTo>
                  <a:pt x="13585" y="12168"/>
                  <a:pt x="13537" y="12241"/>
                  <a:pt x="13469" y="12328"/>
                </a:cubicBezTo>
                <a:cubicBezTo>
                  <a:pt x="13411" y="12402"/>
                  <a:pt x="13387" y="12580"/>
                  <a:pt x="13419" y="12675"/>
                </a:cubicBezTo>
                <a:cubicBezTo>
                  <a:pt x="13468" y="12821"/>
                  <a:pt x="13689" y="12862"/>
                  <a:pt x="13816" y="12874"/>
                </a:cubicBezTo>
                <a:cubicBezTo>
                  <a:pt x="13951" y="12887"/>
                  <a:pt x="14078" y="12849"/>
                  <a:pt x="14213" y="128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26000" y="4697280"/>
            <a:ext cx="61920" cy="187560"/>
          </a:xfrm>
          <a:custGeom>
            <a:avLst/>
            <a:gdLst/>
            <a:ahLst/>
            <a:rect l="l" t="t" r="r" b="b"/>
            <a:pathLst>
              <a:path w="174" h="522">
                <a:moveTo>
                  <a:pt x="12973" y="13047"/>
                </a:moveTo>
                <a:cubicBezTo>
                  <a:pt x="12900" y="13149"/>
                  <a:pt x="12824" y="13278"/>
                  <a:pt x="12849" y="13419"/>
                </a:cubicBezTo>
                <a:cubicBezTo>
                  <a:pt x="12864" y="13505"/>
                  <a:pt x="12946" y="13515"/>
                  <a:pt x="12998" y="13543"/>
                </a:cubicBezTo>
                <a:cubicBezTo>
                  <a:pt x="13006" y="13551"/>
                  <a:pt x="13014" y="13560"/>
                  <a:pt x="13022" y="135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05200" y="4732200"/>
            <a:ext cx="73080" cy="63720"/>
          </a:xfrm>
          <a:custGeom>
            <a:avLst/>
            <a:gdLst/>
            <a:ahLst/>
            <a:rect l="l" t="t" r="r" b="b"/>
            <a:pathLst>
              <a:path w="200" h="175">
                <a:moveTo>
                  <a:pt x="13122" y="13146"/>
                </a:moveTo>
                <a:cubicBezTo>
                  <a:pt x="13110" y="13218"/>
                  <a:pt x="13094" y="13254"/>
                  <a:pt x="13072" y="13320"/>
                </a:cubicBezTo>
                <a:cubicBezTo>
                  <a:pt x="13189" y="13282"/>
                  <a:pt x="13209" y="13280"/>
                  <a:pt x="13271" y="132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76840" y="4697280"/>
            <a:ext cx="9360" cy="133560"/>
          </a:xfrm>
          <a:custGeom>
            <a:avLst/>
            <a:gdLst/>
            <a:ahLst/>
            <a:rect l="l" t="t" r="r" b="b"/>
            <a:pathLst>
              <a:path w="25" h="373">
                <a:moveTo>
                  <a:pt x="13295" y="13047"/>
                </a:moveTo>
                <a:cubicBezTo>
                  <a:pt x="13295" y="13176"/>
                  <a:pt x="13293" y="13293"/>
                  <a:pt x="13271" y="134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30840" y="4697280"/>
            <a:ext cx="63360" cy="142920"/>
          </a:xfrm>
          <a:custGeom>
            <a:avLst/>
            <a:gdLst/>
            <a:ahLst/>
            <a:rect l="l" t="t" r="r" b="b"/>
            <a:pathLst>
              <a:path w="175" h="398">
                <a:moveTo>
                  <a:pt x="13593" y="13047"/>
                </a:moveTo>
                <a:cubicBezTo>
                  <a:pt x="13491" y="13058"/>
                  <a:pt x="13366" y="13081"/>
                  <a:pt x="13444" y="13221"/>
                </a:cubicBezTo>
                <a:cubicBezTo>
                  <a:pt x="13496" y="13315"/>
                  <a:pt x="13637" y="13330"/>
                  <a:pt x="13568" y="13444"/>
                </a:cubicBezTo>
                <a:cubicBezTo>
                  <a:pt x="13433" y="13405"/>
                  <a:pt x="13518" y="13297"/>
                  <a:pt x="13568" y="13196"/>
                </a:cubicBezTo>
                <a:cubicBezTo>
                  <a:pt x="13576" y="13179"/>
                  <a:pt x="13585" y="13163"/>
                  <a:pt x="13593" y="131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83120" y="4795920"/>
            <a:ext cx="1764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13841" y="13320"/>
                </a:moveTo>
                <a:cubicBezTo>
                  <a:pt x="13858" y="13320"/>
                  <a:pt x="13874" y="13320"/>
                  <a:pt x="13891" y="133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4732200"/>
            <a:ext cx="54000" cy="46080"/>
          </a:xfrm>
          <a:custGeom>
            <a:avLst/>
            <a:gdLst/>
            <a:ahLst/>
            <a:rect l="l" t="t" r="r" b="b"/>
            <a:pathLst>
              <a:path w="149" h="126">
                <a:moveTo>
                  <a:pt x="14015" y="13146"/>
                </a:moveTo>
                <a:cubicBezTo>
                  <a:pt x="14063" y="13278"/>
                  <a:pt x="13989" y="13259"/>
                  <a:pt x="14163" y="132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33960" y="4697280"/>
            <a:ext cx="1440" cy="106560"/>
          </a:xfrm>
          <a:custGeom>
            <a:avLst/>
            <a:gdLst/>
            <a:ahLst/>
            <a:rect l="l" t="t" r="r" b="b"/>
            <a:pathLst>
              <a:path w="1" h="299">
                <a:moveTo>
                  <a:pt x="14263" y="13047"/>
                </a:moveTo>
                <a:cubicBezTo>
                  <a:pt x="14263" y="13146"/>
                  <a:pt x="14263" y="13246"/>
                  <a:pt x="14263" y="1334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0040" y="4653000"/>
            <a:ext cx="71280" cy="169920"/>
          </a:xfrm>
          <a:custGeom>
            <a:avLst/>
            <a:gdLst/>
            <a:ahLst/>
            <a:rect l="l" t="t" r="r" b="b"/>
            <a:pathLst>
              <a:path w="199" h="473">
                <a:moveTo>
                  <a:pt x="14387" y="12923"/>
                </a:moveTo>
                <a:cubicBezTo>
                  <a:pt x="14573" y="13098"/>
                  <a:pt x="14608" y="13152"/>
                  <a:pt x="14536" y="133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49880" y="4626000"/>
            <a:ext cx="90360" cy="258840"/>
          </a:xfrm>
          <a:custGeom>
            <a:avLst/>
            <a:gdLst/>
            <a:ahLst/>
            <a:rect l="l" t="t" r="r" b="b"/>
            <a:pathLst>
              <a:path w="249" h="720">
                <a:moveTo>
                  <a:pt x="14833" y="12849"/>
                </a:moveTo>
                <a:cubicBezTo>
                  <a:pt x="14787" y="13065"/>
                  <a:pt x="14685" y="13262"/>
                  <a:pt x="14610" y="13469"/>
                </a:cubicBezTo>
                <a:cubicBezTo>
                  <a:pt x="14602" y="13502"/>
                  <a:pt x="14593" y="13535"/>
                  <a:pt x="14585" y="135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1880" y="4670280"/>
            <a:ext cx="115920" cy="16056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15056" y="13097"/>
                </a:moveTo>
                <a:cubicBezTo>
                  <a:pt x="15094" y="12995"/>
                  <a:pt x="15149" y="13002"/>
                  <a:pt x="15255" y="12973"/>
                </a:cubicBezTo>
                <a:cubicBezTo>
                  <a:pt x="15255" y="13130"/>
                  <a:pt x="15204" y="13216"/>
                  <a:pt x="15106" y="13345"/>
                </a:cubicBezTo>
                <a:cubicBezTo>
                  <a:pt x="15065" y="13386"/>
                  <a:pt x="15057" y="13394"/>
                  <a:pt x="15032" y="13419"/>
                </a:cubicBezTo>
                <a:cubicBezTo>
                  <a:pt x="15146" y="13336"/>
                  <a:pt x="15197" y="13277"/>
                  <a:pt x="15329" y="13295"/>
                </a:cubicBezTo>
                <a:cubicBezTo>
                  <a:pt x="15337" y="13295"/>
                  <a:pt x="15346" y="13295"/>
                  <a:pt x="15354" y="132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11840" y="5537160"/>
            <a:ext cx="54000" cy="7920"/>
          </a:xfrm>
          <a:custGeom>
            <a:avLst/>
            <a:gdLst/>
            <a:ahLst/>
            <a:rect l="l" t="t" r="r" b="b"/>
            <a:pathLst>
              <a:path w="149" h="26">
                <a:moveTo>
                  <a:pt x="13643" y="15404"/>
                </a:moveTo>
                <a:cubicBezTo>
                  <a:pt x="13710" y="15404"/>
                  <a:pt x="13743" y="15400"/>
                  <a:pt x="13791" y="1537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0120" y="5473800"/>
            <a:ext cx="81000" cy="71280"/>
          </a:xfrm>
          <a:custGeom>
            <a:avLst/>
            <a:gdLst/>
            <a:ahLst/>
            <a:rect l="l" t="t" r="r" b="b"/>
            <a:pathLst>
              <a:path w="225" h="200">
                <a:moveTo>
                  <a:pt x="13915" y="15205"/>
                </a:moveTo>
                <a:cubicBezTo>
                  <a:pt x="13973" y="15302"/>
                  <a:pt x="13903" y="15364"/>
                  <a:pt x="14064" y="15404"/>
                </a:cubicBezTo>
                <a:cubicBezTo>
                  <a:pt x="14089" y="15404"/>
                  <a:pt x="14114" y="15404"/>
                  <a:pt x="14139" y="154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81760" y="5464080"/>
            <a:ext cx="9360" cy="117720"/>
          </a:xfrm>
          <a:custGeom>
            <a:avLst/>
            <a:gdLst/>
            <a:ahLst/>
            <a:rect l="l" t="t" r="r" b="b"/>
            <a:pathLst>
              <a:path w="26" h="324">
                <a:moveTo>
                  <a:pt x="14114" y="15180"/>
                </a:moveTo>
                <a:cubicBezTo>
                  <a:pt x="14114" y="15294"/>
                  <a:pt x="14119" y="15392"/>
                  <a:pt x="14139" y="155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16680" y="5438880"/>
            <a:ext cx="53640" cy="222120"/>
          </a:xfrm>
          <a:custGeom>
            <a:avLst/>
            <a:gdLst/>
            <a:ahLst/>
            <a:rect l="l" t="t" r="r" b="b"/>
            <a:pathLst>
              <a:path w="150" h="621">
                <a:moveTo>
                  <a:pt x="14213" y="15106"/>
                </a:moveTo>
                <a:cubicBezTo>
                  <a:pt x="14291" y="15257"/>
                  <a:pt x="14470" y="15507"/>
                  <a:pt x="14312" y="15677"/>
                </a:cubicBezTo>
                <a:cubicBezTo>
                  <a:pt x="14279" y="15693"/>
                  <a:pt x="14246" y="15710"/>
                  <a:pt x="14213" y="157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41960" y="5375160"/>
            <a:ext cx="44280" cy="268560"/>
          </a:xfrm>
          <a:custGeom>
            <a:avLst/>
            <a:gdLst/>
            <a:ahLst/>
            <a:rect l="l" t="t" r="r" b="b"/>
            <a:pathLst>
              <a:path w="125" h="746">
                <a:moveTo>
                  <a:pt x="14660" y="14932"/>
                </a:moveTo>
                <a:cubicBezTo>
                  <a:pt x="14694" y="15145"/>
                  <a:pt x="14586" y="15357"/>
                  <a:pt x="14560" y="15577"/>
                </a:cubicBezTo>
                <a:cubicBezTo>
                  <a:pt x="14560" y="15610"/>
                  <a:pt x="14560" y="15644"/>
                  <a:pt x="14560" y="156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57880" y="5438880"/>
            <a:ext cx="108000" cy="106200"/>
          </a:xfrm>
          <a:custGeom>
            <a:avLst/>
            <a:gdLst/>
            <a:ahLst/>
            <a:rect l="l" t="t" r="r" b="b"/>
            <a:pathLst>
              <a:path w="298" h="299">
                <a:moveTo>
                  <a:pt x="14908" y="15180"/>
                </a:moveTo>
                <a:cubicBezTo>
                  <a:pt x="14935" y="15158"/>
                  <a:pt x="15111" y="15038"/>
                  <a:pt x="15106" y="15156"/>
                </a:cubicBezTo>
                <a:cubicBezTo>
                  <a:pt x="15102" y="15254"/>
                  <a:pt x="14970" y="15330"/>
                  <a:pt x="14908" y="15379"/>
                </a:cubicBezTo>
                <a:cubicBezTo>
                  <a:pt x="14866" y="15421"/>
                  <a:pt x="15118" y="15367"/>
                  <a:pt x="15180" y="153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40200" y="5661000"/>
            <a:ext cx="98640" cy="117360"/>
          </a:xfrm>
          <a:custGeom>
            <a:avLst/>
            <a:gdLst/>
            <a:ahLst/>
            <a:rect l="l" t="t" r="r" b="b"/>
            <a:pathLst>
              <a:path w="274" h="324">
                <a:moveTo>
                  <a:pt x="13643" y="15726"/>
                </a:moveTo>
                <a:cubicBezTo>
                  <a:pt x="13542" y="15746"/>
                  <a:pt x="13522" y="15744"/>
                  <a:pt x="13469" y="15776"/>
                </a:cubicBezTo>
                <a:cubicBezTo>
                  <a:pt x="13475" y="15801"/>
                  <a:pt x="13727" y="15958"/>
                  <a:pt x="13717" y="15999"/>
                </a:cubicBezTo>
                <a:cubicBezTo>
                  <a:pt x="13654" y="16042"/>
                  <a:pt x="13642" y="16058"/>
                  <a:pt x="13593" y="16049"/>
                </a:cubicBezTo>
                <a:cubicBezTo>
                  <a:pt x="13581" y="15943"/>
                  <a:pt x="13637" y="15893"/>
                  <a:pt x="13717" y="158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0120" y="5670720"/>
            <a:ext cx="125280" cy="115560"/>
          </a:xfrm>
          <a:custGeom>
            <a:avLst/>
            <a:gdLst/>
            <a:ahLst/>
            <a:rect l="l" t="t" r="r" b="b"/>
            <a:pathLst>
              <a:path w="349" h="323">
                <a:moveTo>
                  <a:pt x="13940" y="15751"/>
                </a:moveTo>
                <a:cubicBezTo>
                  <a:pt x="13919" y="15840"/>
                  <a:pt x="13872" y="15979"/>
                  <a:pt x="13965" y="16049"/>
                </a:cubicBezTo>
                <a:cubicBezTo>
                  <a:pt x="14091" y="16145"/>
                  <a:pt x="14192" y="16036"/>
                  <a:pt x="14263" y="15949"/>
                </a:cubicBezTo>
                <a:cubicBezTo>
                  <a:pt x="14105" y="15905"/>
                  <a:pt x="14145" y="15922"/>
                  <a:pt x="14039" y="160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53040" y="570564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4312" y="15875"/>
                </a:moveTo>
                <a:cubicBezTo>
                  <a:pt x="14397" y="15875"/>
                  <a:pt x="14474" y="15856"/>
                  <a:pt x="14560" y="158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7960" y="564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412" y="15677"/>
                </a:moveTo>
                <a:lnTo>
                  <a:pt x="14412" y="15677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32240" y="5759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536" y="15999"/>
                </a:moveTo>
                <a:lnTo>
                  <a:pt x="14536" y="1599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95960" y="565308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14709" y="15751"/>
                </a:moveTo>
                <a:cubicBezTo>
                  <a:pt x="14786" y="15705"/>
                  <a:pt x="14811" y="15701"/>
                  <a:pt x="14908" y="15701"/>
                </a:cubicBezTo>
                <a:cubicBezTo>
                  <a:pt x="14895" y="15781"/>
                  <a:pt x="14756" y="15904"/>
                  <a:pt x="14759" y="15949"/>
                </a:cubicBezTo>
                <a:cubicBezTo>
                  <a:pt x="14762" y="16003"/>
                  <a:pt x="14924" y="15952"/>
                  <a:pt x="14957" y="159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73760" y="5875200"/>
            <a:ext cx="125280" cy="117720"/>
          </a:xfrm>
          <a:custGeom>
            <a:avLst/>
            <a:gdLst/>
            <a:ahLst/>
            <a:rect l="l" t="t" r="r" b="b"/>
            <a:pathLst>
              <a:path w="348" h="324">
                <a:moveTo>
                  <a:pt x="13841" y="16321"/>
                </a:moveTo>
                <a:cubicBezTo>
                  <a:pt x="13841" y="16409"/>
                  <a:pt x="13830" y="16485"/>
                  <a:pt x="13816" y="16570"/>
                </a:cubicBezTo>
                <a:cubicBezTo>
                  <a:pt x="13789" y="16731"/>
                  <a:pt x="14120" y="16584"/>
                  <a:pt x="14163" y="165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2040" y="5867280"/>
            <a:ext cx="9720" cy="16992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4089" y="16297"/>
                </a:moveTo>
                <a:cubicBezTo>
                  <a:pt x="14097" y="16455"/>
                  <a:pt x="14114" y="16609"/>
                  <a:pt x="14114" y="167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97320" y="5840280"/>
            <a:ext cx="142920" cy="17784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4436" y="16247"/>
                </a:moveTo>
                <a:cubicBezTo>
                  <a:pt x="14502" y="16232"/>
                  <a:pt x="14733" y="16168"/>
                  <a:pt x="14709" y="16321"/>
                </a:cubicBezTo>
                <a:cubicBezTo>
                  <a:pt x="14694" y="16415"/>
                  <a:pt x="14580" y="16442"/>
                  <a:pt x="14511" y="16470"/>
                </a:cubicBezTo>
                <a:cubicBezTo>
                  <a:pt x="14614" y="16402"/>
                  <a:pt x="14721" y="16400"/>
                  <a:pt x="14808" y="16520"/>
                </a:cubicBezTo>
                <a:cubicBezTo>
                  <a:pt x="14919" y="16673"/>
                  <a:pt x="14623" y="16725"/>
                  <a:pt x="14536" y="16718"/>
                </a:cubicBezTo>
                <a:cubicBezTo>
                  <a:pt x="14511" y="16710"/>
                  <a:pt x="14486" y="16702"/>
                  <a:pt x="14461" y="166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67200" y="5776920"/>
            <a:ext cx="571680" cy="376200"/>
          </a:xfrm>
          <a:custGeom>
            <a:avLst/>
            <a:gdLst/>
            <a:ahLst/>
            <a:rect l="l" t="t" r="r" b="b"/>
            <a:pathLst>
              <a:path w="1588" h="1042">
                <a:moveTo>
                  <a:pt x="13593" y="17016"/>
                </a:moveTo>
                <a:cubicBezTo>
                  <a:pt x="13857" y="17062"/>
                  <a:pt x="14095" y="17089"/>
                  <a:pt x="14362" y="17066"/>
                </a:cubicBezTo>
                <a:cubicBezTo>
                  <a:pt x="14622" y="17044"/>
                  <a:pt x="14891" y="16961"/>
                  <a:pt x="15032" y="16718"/>
                </a:cubicBezTo>
                <a:cubicBezTo>
                  <a:pt x="15122" y="16563"/>
                  <a:pt x="15109" y="16481"/>
                  <a:pt x="15032" y="16346"/>
                </a:cubicBezTo>
                <a:cubicBezTo>
                  <a:pt x="14977" y="16250"/>
                  <a:pt x="14899" y="16209"/>
                  <a:pt x="14808" y="16148"/>
                </a:cubicBezTo>
                <a:cubicBezTo>
                  <a:pt x="14695" y="16073"/>
                  <a:pt x="14596" y="16052"/>
                  <a:pt x="14461" y="16049"/>
                </a:cubicBezTo>
                <a:cubicBezTo>
                  <a:pt x="14297" y="16045"/>
                  <a:pt x="14148" y="16089"/>
                  <a:pt x="13990" y="16123"/>
                </a:cubicBezTo>
                <a:cubicBezTo>
                  <a:pt x="13811" y="16162"/>
                  <a:pt x="13676" y="16276"/>
                  <a:pt x="13593" y="16446"/>
                </a:cubicBezTo>
                <a:cubicBezTo>
                  <a:pt x="13541" y="16552"/>
                  <a:pt x="13485" y="16733"/>
                  <a:pt x="13568" y="16842"/>
                </a:cubicBezTo>
                <a:cubicBezTo>
                  <a:pt x="13664" y="16968"/>
                  <a:pt x="13869" y="17029"/>
                  <a:pt x="14015" y="17041"/>
                </a:cubicBezTo>
                <a:cubicBezTo>
                  <a:pt x="14164" y="17041"/>
                  <a:pt x="14197" y="17041"/>
                  <a:pt x="14288" y="1704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s will accurately complete a function table with a two-operation rule.</a:t>
            </a:r>
            <a:r>
              <a:rPr b="1" lang="en-US" sz="2600" spc="-1" strike="noStrike">
                <a:solidFill>
                  <a:srgbClr val="bbe0e3"/>
                </a:solidFill>
                <a:latin typeface="Times New Roman"/>
              </a:rPr>
              <a:t>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kill Practice:  Use the rules below to accurately complete each function table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3520" y="2057400"/>
          <a:ext cx="2133360" cy="3633840"/>
        </p:xfrm>
        <a:graphic>
          <a:graphicData uri="http://schemas.openxmlformats.org/drawingml/2006/table">
            <a:tbl>
              <a:tblPr/>
              <a:tblGrid>
                <a:gridCol w="961920"/>
                <a:gridCol w="1171440"/>
              </a:tblGrid>
              <a:tr h="1300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= (p + 8) x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429000" y="2057400"/>
          <a:ext cx="2171520" cy="3580920"/>
        </p:xfrm>
        <a:graphic>
          <a:graphicData uri="http://schemas.openxmlformats.org/drawingml/2006/table">
            <a:tbl>
              <a:tblPr/>
              <a:tblGrid>
                <a:gridCol w="1047240"/>
                <a:gridCol w="1124280"/>
              </a:tblGrid>
              <a:tr h="804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= 2c -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553080" y="2057400"/>
          <a:ext cx="1905120" cy="3428640"/>
        </p:xfrm>
        <a:graphic>
          <a:graphicData uri="http://schemas.openxmlformats.org/drawingml/2006/table">
            <a:tbl>
              <a:tblPr/>
              <a:tblGrid>
                <a:gridCol w="919440"/>
                <a:gridCol w="985680"/>
              </a:tblGrid>
              <a:tr h="553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8 + x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108080" y="4259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076" y="11832"/>
                </a:moveTo>
                <a:lnTo>
                  <a:pt x="3076" y="11832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85960" y="3857760"/>
            <a:ext cx="428760" cy="349200"/>
          </a:xfrm>
          <a:custGeom>
            <a:avLst/>
            <a:gdLst/>
            <a:ahLst/>
            <a:rect l="l" t="t" r="r" b="b"/>
            <a:pathLst>
              <a:path w="1192" h="968">
                <a:moveTo>
                  <a:pt x="5308" y="11013"/>
                </a:moveTo>
                <a:cubicBezTo>
                  <a:pt x="5300" y="11013"/>
                  <a:pt x="5291" y="11013"/>
                  <a:pt x="5283" y="11013"/>
                </a:cubicBezTo>
                <a:cubicBezTo>
                  <a:pt x="5352" y="10894"/>
                  <a:pt x="5547" y="10966"/>
                  <a:pt x="5531" y="11137"/>
                </a:cubicBezTo>
                <a:cubicBezTo>
                  <a:pt x="5503" y="11431"/>
                  <a:pt x="5192" y="11544"/>
                  <a:pt x="4961" y="11584"/>
                </a:cubicBezTo>
                <a:cubicBezTo>
                  <a:pt x="5018" y="11357"/>
                  <a:pt x="5144" y="11305"/>
                  <a:pt x="5383" y="11385"/>
                </a:cubicBezTo>
                <a:cubicBezTo>
                  <a:pt x="5508" y="11448"/>
                  <a:pt x="5543" y="11452"/>
                  <a:pt x="5581" y="11534"/>
                </a:cubicBezTo>
              </a:path>
              <a:path w="1192" h="968">
                <a:moveTo>
                  <a:pt x="5779" y="10988"/>
                </a:moveTo>
                <a:cubicBezTo>
                  <a:pt x="5774" y="11117"/>
                  <a:pt x="5765" y="11212"/>
                  <a:pt x="5730" y="11336"/>
                </a:cubicBezTo>
                <a:cubicBezTo>
                  <a:pt x="5877" y="11316"/>
                  <a:pt x="6013" y="11270"/>
                  <a:pt x="6152" y="11212"/>
                </a:cubicBezTo>
              </a:path>
              <a:path w="1192" h="968">
                <a:moveTo>
                  <a:pt x="6028" y="10716"/>
                </a:moveTo>
                <a:cubicBezTo>
                  <a:pt x="6049" y="10911"/>
                  <a:pt x="6079" y="11113"/>
                  <a:pt x="6102" y="11311"/>
                </a:cubicBezTo>
                <a:cubicBezTo>
                  <a:pt x="6117" y="11442"/>
                  <a:pt x="6127" y="11554"/>
                  <a:pt x="6127" y="116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8960" y="4402080"/>
            <a:ext cx="393840" cy="241200"/>
          </a:xfrm>
          <a:custGeom>
            <a:avLst/>
            <a:gdLst/>
            <a:ahLst/>
            <a:rect l="l" t="t" r="r" b="b"/>
            <a:pathLst>
              <a:path w="1092" h="670">
                <a:moveTo>
                  <a:pt x="5035" y="12328"/>
                </a:moveTo>
                <a:cubicBezTo>
                  <a:pt x="4945" y="12483"/>
                  <a:pt x="5110" y="12282"/>
                  <a:pt x="5159" y="12254"/>
                </a:cubicBezTo>
                <a:cubicBezTo>
                  <a:pt x="5184" y="12246"/>
                  <a:pt x="5209" y="12237"/>
                  <a:pt x="5234" y="12229"/>
                </a:cubicBezTo>
                <a:cubicBezTo>
                  <a:pt x="5343" y="12460"/>
                  <a:pt x="5323" y="12640"/>
                  <a:pt x="5060" y="12774"/>
                </a:cubicBezTo>
                <a:cubicBezTo>
                  <a:pt x="4959" y="12794"/>
                  <a:pt x="4939" y="12813"/>
                  <a:pt x="4887" y="12774"/>
                </a:cubicBezTo>
                <a:cubicBezTo>
                  <a:pt x="5027" y="12674"/>
                  <a:pt x="5188" y="12616"/>
                  <a:pt x="5333" y="12774"/>
                </a:cubicBezTo>
                <a:cubicBezTo>
                  <a:pt x="5355" y="12839"/>
                  <a:pt x="5363" y="12854"/>
                  <a:pt x="5358" y="12898"/>
                </a:cubicBezTo>
              </a:path>
              <a:path w="1092" h="670">
                <a:moveTo>
                  <a:pt x="5928" y="12229"/>
                </a:moveTo>
                <a:cubicBezTo>
                  <a:pt x="5795" y="12261"/>
                  <a:pt x="5681" y="12297"/>
                  <a:pt x="5556" y="12353"/>
                </a:cubicBezTo>
                <a:cubicBezTo>
                  <a:pt x="5652" y="12441"/>
                  <a:pt x="5969" y="12522"/>
                  <a:pt x="5978" y="12675"/>
                </a:cubicBezTo>
                <a:cubicBezTo>
                  <a:pt x="5961" y="12708"/>
                  <a:pt x="5945" y="12741"/>
                  <a:pt x="5928" y="12774"/>
                </a:cubicBezTo>
                <a:cubicBezTo>
                  <a:pt x="5707" y="12743"/>
                  <a:pt x="5765" y="12617"/>
                  <a:pt x="5854" y="12427"/>
                </a:cubicBezTo>
                <a:cubicBezTo>
                  <a:pt x="5909" y="12334"/>
                  <a:pt x="5908" y="12319"/>
                  <a:pt x="5953" y="122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3240" y="4857840"/>
            <a:ext cx="393840" cy="258840"/>
          </a:xfrm>
          <a:custGeom>
            <a:avLst/>
            <a:gdLst/>
            <a:ahLst/>
            <a:rect l="l" t="t" r="r" b="b"/>
            <a:pathLst>
              <a:path w="1092" h="720">
                <a:moveTo>
                  <a:pt x="5110" y="13643"/>
                </a:moveTo>
                <a:cubicBezTo>
                  <a:pt x="5133" y="13548"/>
                  <a:pt x="5328" y="13470"/>
                  <a:pt x="5358" y="13667"/>
                </a:cubicBezTo>
                <a:cubicBezTo>
                  <a:pt x="5378" y="13797"/>
                  <a:pt x="5241" y="13842"/>
                  <a:pt x="5159" y="13891"/>
                </a:cubicBezTo>
                <a:cubicBezTo>
                  <a:pt x="5151" y="13891"/>
                  <a:pt x="5143" y="13891"/>
                  <a:pt x="5135" y="13891"/>
                </a:cubicBezTo>
                <a:cubicBezTo>
                  <a:pt x="5306" y="13891"/>
                  <a:pt x="5533" y="13954"/>
                  <a:pt x="5283" y="14139"/>
                </a:cubicBezTo>
                <a:cubicBezTo>
                  <a:pt x="5147" y="14207"/>
                  <a:pt x="5110" y="14234"/>
                  <a:pt x="5011" y="14188"/>
                </a:cubicBezTo>
              </a:path>
              <a:path w="1092" h="720">
                <a:moveTo>
                  <a:pt x="5779" y="13543"/>
                </a:moveTo>
                <a:cubicBezTo>
                  <a:pt x="5716" y="13587"/>
                  <a:pt x="5878" y="13442"/>
                  <a:pt x="5978" y="13519"/>
                </a:cubicBezTo>
                <a:cubicBezTo>
                  <a:pt x="6199" y="13689"/>
                  <a:pt x="5937" y="14063"/>
                  <a:pt x="5755" y="14139"/>
                </a:cubicBezTo>
                <a:cubicBezTo>
                  <a:pt x="5632" y="14139"/>
                  <a:pt x="5601" y="14157"/>
                  <a:pt x="5556" y="14089"/>
                </a:cubicBezTo>
                <a:cubicBezTo>
                  <a:pt x="5647" y="13933"/>
                  <a:pt x="5747" y="13875"/>
                  <a:pt x="5928" y="13965"/>
                </a:cubicBezTo>
                <a:cubicBezTo>
                  <a:pt x="6024" y="14013"/>
                  <a:pt x="6073" y="14075"/>
                  <a:pt x="6102" y="1416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95320" y="5322960"/>
            <a:ext cx="428760" cy="222120"/>
          </a:xfrm>
          <a:custGeom>
            <a:avLst/>
            <a:gdLst/>
            <a:ahLst/>
            <a:rect l="l" t="t" r="r" b="b"/>
            <a:pathLst>
              <a:path w="1191" h="621">
                <a:moveTo>
                  <a:pt x="5060" y="14883"/>
                </a:moveTo>
                <a:cubicBezTo>
                  <a:pt x="5009" y="14987"/>
                  <a:pt x="4991" y="15025"/>
                  <a:pt x="4986" y="15106"/>
                </a:cubicBezTo>
                <a:cubicBezTo>
                  <a:pt x="5121" y="15143"/>
                  <a:pt x="5241" y="15117"/>
                  <a:pt x="5383" y="15106"/>
                </a:cubicBezTo>
              </a:path>
              <a:path w="1191" h="621">
                <a:moveTo>
                  <a:pt x="5383" y="14784"/>
                </a:moveTo>
                <a:cubicBezTo>
                  <a:pt x="5372" y="14993"/>
                  <a:pt x="5344" y="15198"/>
                  <a:pt x="5308" y="15404"/>
                </a:cubicBezTo>
              </a:path>
              <a:path w="1191" h="621">
                <a:moveTo>
                  <a:pt x="5953" y="14833"/>
                </a:moveTo>
                <a:cubicBezTo>
                  <a:pt x="5855" y="14790"/>
                  <a:pt x="5811" y="14846"/>
                  <a:pt x="5779" y="14957"/>
                </a:cubicBezTo>
                <a:cubicBezTo>
                  <a:pt x="5741" y="15086"/>
                  <a:pt x="5727" y="15343"/>
                  <a:pt x="5904" y="15354"/>
                </a:cubicBezTo>
                <a:cubicBezTo>
                  <a:pt x="6071" y="15364"/>
                  <a:pt x="6176" y="15175"/>
                  <a:pt x="6176" y="15032"/>
                </a:cubicBezTo>
                <a:cubicBezTo>
                  <a:pt x="6176" y="14949"/>
                  <a:pt x="6081" y="14828"/>
                  <a:pt x="6003" y="14808"/>
                </a:cubicBezTo>
                <a:cubicBezTo>
                  <a:pt x="5929" y="14808"/>
                  <a:pt x="5920" y="14808"/>
                  <a:pt x="5879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7280" y="3500280"/>
            <a:ext cx="517680" cy="2098800"/>
          </a:xfrm>
          <a:custGeom>
            <a:avLst/>
            <a:gdLst/>
            <a:ahLst/>
            <a:rect l="l" t="t" r="r" b="b"/>
            <a:pathLst>
              <a:path w="1440" h="5831">
                <a:moveTo>
                  <a:pt x="13395" y="9971"/>
                </a:moveTo>
                <a:cubicBezTo>
                  <a:pt x="13403" y="9917"/>
                  <a:pt x="13412" y="9901"/>
                  <a:pt x="13419" y="9847"/>
                </a:cubicBezTo>
                <a:cubicBezTo>
                  <a:pt x="13427" y="10088"/>
                  <a:pt x="13444" y="10326"/>
                  <a:pt x="13444" y="10567"/>
                </a:cubicBezTo>
              </a:path>
              <a:path w="1440" h="5831">
                <a:moveTo>
                  <a:pt x="13767" y="10021"/>
                </a:moveTo>
                <a:cubicBezTo>
                  <a:pt x="13805" y="10117"/>
                  <a:pt x="13816" y="10190"/>
                  <a:pt x="13816" y="10294"/>
                </a:cubicBezTo>
                <a:cubicBezTo>
                  <a:pt x="13967" y="10243"/>
                  <a:pt x="14110" y="10192"/>
                  <a:pt x="14263" y="10220"/>
                </a:cubicBezTo>
              </a:path>
              <a:path w="1440" h="5831">
                <a:moveTo>
                  <a:pt x="14139" y="9723"/>
                </a:moveTo>
                <a:cubicBezTo>
                  <a:pt x="14162" y="9915"/>
                  <a:pt x="14207" y="10103"/>
                  <a:pt x="14238" y="10294"/>
                </a:cubicBezTo>
                <a:cubicBezTo>
                  <a:pt x="14260" y="10431"/>
                  <a:pt x="14246" y="10490"/>
                  <a:pt x="14312" y="10592"/>
                </a:cubicBezTo>
              </a:path>
              <a:path w="1440" h="5831">
                <a:moveTo>
                  <a:pt x="13320" y="11559"/>
                </a:moveTo>
                <a:cubicBezTo>
                  <a:pt x="13300" y="11440"/>
                  <a:pt x="13408" y="11427"/>
                  <a:pt x="13519" y="11410"/>
                </a:cubicBezTo>
                <a:cubicBezTo>
                  <a:pt x="13571" y="11545"/>
                  <a:pt x="13649" y="11720"/>
                  <a:pt x="13494" y="11832"/>
                </a:cubicBezTo>
                <a:cubicBezTo>
                  <a:pt x="13477" y="11832"/>
                  <a:pt x="13461" y="11832"/>
                  <a:pt x="13444" y="11832"/>
                </a:cubicBezTo>
                <a:cubicBezTo>
                  <a:pt x="13575" y="11792"/>
                  <a:pt x="13711" y="11818"/>
                  <a:pt x="13692" y="12005"/>
                </a:cubicBezTo>
                <a:cubicBezTo>
                  <a:pt x="13679" y="12137"/>
                  <a:pt x="13394" y="12238"/>
                  <a:pt x="13295" y="12154"/>
                </a:cubicBezTo>
                <a:cubicBezTo>
                  <a:pt x="13295" y="12138"/>
                  <a:pt x="13295" y="12121"/>
                  <a:pt x="13295" y="12105"/>
                </a:cubicBezTo>
              </a:path>
              <a:path w="1440" h="5831">
                <a:moveTo>
                  <a:pt x="13940" y="11658"/>
                </a:moveTo>
                <a:cubicBezTo>
                  <a:pt x="13940" y="11600"/>
                  <a:pt x="13938" y="11580"/>
                  <a:pt x="13965" y="11534"/>
                </a:cubicBezTo>
                <a:cubicBezTo>
                  <a:pt x="13978" y="11616"/>
                  <a:pt x="13936" y="11985"/>
                  <a:pt x="14089" y="11931"/>
                </a:cubicBezTo>
                <a:cubicBezTo>
                  <a:pt x="14157" y="11907"/>
                  <a:pt x="14277" y="11783"/>
                  <a:pt x="14337" y="11733"/>
                </a:cubicBezTo>
              </a:path>
              <a:path w="1440" h="5831">
                <a:moveTo>
                  <a:pt x="14288" y="11261"/>
                </a:moveTo>
                <a:cubicBezTo>
                  <a:pt x="14310" y="11510"/>
                  <a:pt x="14350" y="11757"/>
                  <a:pt x="14387" y="12005"/>
                </a:cubicBezTo>
                <a:cubicBezTo>
                  <a:pt x="14402" y="12104"/>
                  <a:pt x="14412" y="12304"/>
                  <a:pt x="14412" y="12204"/>
                </a:cubicBezTo>
              </a:path>
              <a:path w="1440" h="5831">
                <a:moveTo>
                  <a:pt x="13146" y="13022"/>
                </a:moveTo>
                <a:cubicBezTo>
                  <a:pt x="13304" y="13036"/>
                  <a:pt x="13393" y="13059"/>
                  <a:pt x="13543" y="12998"/>
                </a:cubicBezTo>
                <a:cubicBezTo>
                  <a:pt x="13560" y="12990"/>
                  <a:pt x="13576" y="12981"/>
                  <a:pt x="13593" y="12973"/>
                </a:cubicBezTo>
                <a:cubicBezTo>
                  <a:pt x="13531" y="13220"/>
                  <a:pt x="13476" y="13435"/>
                  <a:pt x="13469" y="13692"/>
                </a:cubicBezTo>
                <a:cubicBezTo>
                  <a:pt x="13469" y="13709"/>
                  <a:pt x="13469" y="13725"/>
                  <a:pt x="13469" y="13742"/>
                </a:cubicBezTo>
              </a:path>
              <a:path w="1440" h="5831">
                <a:moveTo>
                  <a:pt x="13940" y="13122"/>
                </a:moveTo>
                <a:cubicBezTo>
                  <a:pt x="13920" y="13219"/>
                  <a:pt x="13902" y="13304"/>
                  <a:pt x="13866" y="13395"/>
                </a:cubicBezTo>
                <a:cubicBezTo>
                  <a:pt x="13996" y="13389"/>
                  <a:pt x="14110" y="13374"/>
                  <a:pt x="14238" y="13345"/>
                </a:cubicBezTo>
              </a:path>
              <a:path w="1440" h="5831">
                <a:moveTo>
                  <a:pt x="14139" y="12799"/>
                </a:moveTo>
                <a:cubicBezTo>
                  <a:pt x="14174" y="13047"/>
                  <a:pt x="14241" y="13291"/>
                  <a:pt x="14263" y="13543"/>
                </a:cubicBezTo>
                <a:cubicBezTo>
                  <a:pt x="14263" y="13576"/>
                  <a:pt x="14263" y="13610"/>
                  <a:pt x="14263" y="13643"/>
                </a:cubicBezTo>
              </a:path>
              <a:path w="1440" h="5831">
                <a:moveTo>
                  <a:pt x="13047" y="14536"/>
                </a:moveTo>
                <a:cubicBezTo>
                  <a:pt x="13079" y="14827"/>
                  <a:pt x="13097" y="15111"/>
                  <a:pt x="13097" y="15404"/>
                </a:cubicBezTo>
              </a:path>
              <a:path w="1440" h="5831">
                <a:moveTo>
                  <a:pt x="13767" y="14759"/>
                </a:moveTo>
                <a:cubicBezTo>
                  <a:pt x="13721" y="14652"/>
                  <a:pt x="13663" y="14469"/>
                  <a:pt x="13519" y="14461"/>
                </a:cubicBezTo>
                <a:cubicBezTo>
                  <a:pt x="13511" y="14469"/>
                  <a:pt x="13502" y="14478"/>
                  <a:pt x="13494" y="14486"/>
                </a:cubicBezTo>
                <a:cubicBezTo>
                  <a:pt x="13352" y="14607"/>
                  <a:pt x="13400" y="14787"/>
                  <a:pt x="13444" y="14957"/>
                </a:cubicBezTo>
                <a:cubicBezTo>
                  <a:pt x="13508" y="15207"/>
                  <a:pt x="13680" y="14766"/>
                  <a:pt x="13692" y="14734"/>
                </a:cubicBezTo>
                <a:cubicBezTo>
                  <a:pt x="13715" y="14667"/>
                  <a:pt x="13726" y="14649"/>
                  <a:pt x="13692" y="14610"/>
                </a:cubicBezTo>
                <a:cubicBezTo>
                  <a:pt x="13725" y="14874"/>
                  <a:pt x="13755" y="15138"/>
                  <a:pt x="13767" y="15404"/>
                </a:cubicBezTo>
              </a:path>
              <a:path w="1440" h="5831">
                <a:moveTo>
                  <a:pt x="14039" y="14808"/>
                </a:moveTo>
                <a:cubicBezTo>
                  <a:pt x="14039" y="14934"/>
                  <a:pt x="14046" y="14961"/>
                  <a:pt x="14015" y="15032"/>
                </a:cubicBezTo>
                <a:cubicBezTo>
                  <a:pt x="14100" y="14925"/>
                  <a:pt x="14192" y="14946"/>
                  <a:pt x="14312" y="15007"/>
                </a:cubicBezTo>
                <a:cubicBezTo>
                  <a:pt x="14337" y="15023"/>
                  <a:pt x="14362" y="15040"/>
                  <a:pt x="14387" y="15056"/>
                </a:cubicBezTo>
              </a:path>
              <a:path w="1440" h="5831">
                <a:moveTo>
                  <a:pt x="14263" y="14461"/>
                </a:moveTo>
                <a:cubicBezTo>
                  <a:pt x="14286" y="14775"/>
                  <a:pt x="14365" y="15071"/>
                  <a:pt x="14436" y="15379"/>
                </a:cubicBezTo>
                <a:cubicBezTo>
                  <a:pt x="14456" y="15480"/>
                  <a:pt x="14454" y="15500"/>
                  <a:pt x="14486" y="155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32800" y="3268800"/>
            <a:ext cx="393480" cy="2062080"/>
          </a:xfrm>
          <a:custGeom>
            <a:avLst/>
            <a:gdLst/>
            <a:ahLst/>
            <a:rect l="l" t="t" r="r" b="b"/>
            <a:pathLst>
              <a:path w="1092" h="5730">
                <a:moveTo>
                  <a:pt x="21555" y="9227"/>
                </a:moveTo>
                <a:cubicBezTo>
                  <a:pt x="21547" y="9350"/>
                  <a:pt x="21525" y="9437"/>
                  <a:pt x="21481" y="9550"/>
                </a:cubicBezTo>
                <a:cubicBezTo>
                  <a:pt x="21608" y="9563"/>
                  <a:pt x="21723" y="9557"/>
                  <a:pt x="21853" y="9550"/>
                </a:cubicBezTo>
              </a:path>
              <a:path w="1092" h="5730">
                <a:moveTo>
                  <a:pt x="21853" y="9079"/>
                </a:moveTo>
                <a:cubicBezTo>
                  <a:pt x="21853" y="9386"/>
                  <a:pt x="21869" y="9690"/>
                  <a:pt x="21878" y="9996"/>
                </a:cubicBezTo>
                <a:cubicBezTo>
                  <a:pt x="21878" y="10004"/>
                  <a:pt x="21878" y="10013"/>
                  <a:pt x="21878" y="10021"/>
                </a:cubicBezTo>
              </a:path>
              <a:path w="1092" h="5730">
                <a:moveTo>
                  <a:pt x="22275" y="9252"/>
                </a:moveTo>
                <a:cubicBezTo>
                  <a:pt x="22134" y="9377"/>
                  <a:pt x="22096" y="9553"/>
                  <a:pt x="22126" y="9748"/>
                </a:cubicBezTo>
                <a:cubicBezTo>
                  <a:pt x="22172" y="9887"/>
                  <a:pt x="22179" y="9930"/>
                  <a:pt x="22275" y="9971"/>
                </a:cubicBezTo>
                <a:cubicBezTo>
                  <a:pt x="22501" y="9901"/>
                  <a:pt x="22591" y="9790"/>
                  <a:pt x="22547" y="9525"/>
                </a:cubicBezTo>
                <a:cubicBezTo>
                  <a:pt x="22522" y="9375"/>
                  <a:pt x="22392" y="9362"/>
                  <a:pt x="22275" y="9327"/>
                </a:cubicBezTo>
              </a:path>
              <a:path w="1092" h="5730">
                <a:moveTo>
                  <a:pt x="21630" y="10988"/>
                </a:moveTo>
                <a:cubicBezTo>
                  <a:pt x="21666" y="10922"/>
                  <a:pt x="21748" y="10775"/>
                  <a:pt x="21853" y="10815"/>
                </a:cubicBezTo>
                <a:cubicBezTo>
                  <a:pt x="22020" y="10878"/>
                  <a:pt x="21931" y="11098"/>
                  <a:pt x="21853" y="11187"/>
                </a:cubicBezTo>
                <a:cubicBezTo>
                  <a:pt x="21749" y="11306"/>
                  <a:pt x="21568" y="11315"/>
                  <a:pt x="21530" y="11485"/>
                </a:cubicBezTo>
                <a:cubicBezTo>
                  <a:pt x="21517" y="11544"/>
                  <a:pt x="21530" y="11622"/>
                  <a:pt x="21530" y="11683"/>
                </a:cubicBezTo>
                <a:cubicBezTo>
                  <a:pt x="21595" y="11602"/>
                  <a:pt x="21664" y="11406"/>
                  <a:pt x="21779" y="11385"/>
                </a:cubicBezTo>
                <a:cubicBezTo>
                  <a:pt x="21896" y="11363"/>
                  <a:pt x="21921" y="11506"/>
                  <a:pt x="21977" y="11559"/>
                </a:cubicBezTo>
                <a:cubicBezTo>
                  <a:pt x="21994" y="11567"/>
                  <a:pt x="22010" y="11576"/>
                  <a:pt x="22027" y="11584"/>
                </a:cubicBezTo>
              </a:path>
              <a:path w="1092" h="5730">
                <a:moveTo>
                  <a:pt x="22250" y="11038"/>
                </a:moveTo>
                <a:cubicBezTo>
                  <a:pt x="22242" y="11079"/>
                  <a:pt x="22233" y="11121"/>
                  <a:pt x="22225" y="11162"/>
                </a:cubicBezTo>
                <a:cubicBezTo>
                  <a:pt x="22212" y="10953"/>
                  <a:pt x="22287" y="11013"/>
                  <a:pt x="22473" y="10914"/>
                </a:cubicBezTo>
                <a:cubicBezTo>
                  <a:pt x="22532" y="10874"/>
                  <a:pt x="22543" y="10870"/>
                  <a:pt x="22572" y="10840"/>
                </a:cubicBezTo>
                <a:cubicBezTo>
                  <a:pt x="22555" y="11175"/>
                  <a:pt x="22432" y="11529"/>
                  <a:pt x="22498" y="11857"/>
                </a:cubicBezTo>
              </a:path>
              <a:path w="1092" h="5730">
                <a:moveTo>
                  <a:pt x="21555" y="12576"/>
                </a:moveTo>
                <a:cubicBezTo>
                  <a:pt x="21577" y="12686"/>
                  <a:pt x="21580" y="13023"/>
                  <a:pt x="21580" y="13221"/>
                </a:cubicBezTo>
                <a:cubicBezTo>
                  <a:pt x="21580" y="13254"/>
                  <a:pt x="21580" y="13287"/>
                  <a:pt x="21580" y="13320"/>
                </a:cubicBezTo>
              </a:path>
              <a:path w="1092" h="5730">
                <a:moveTo>
                  <a:pt x="22101" y="12650"/>
                </a:moveTo>
                <a:cubicBezTo>
                  <a:pt x="22093" y="12793"/>
                  <a:pt x="22129" y="12883"/>
                  <a:pt x="21977" y="12898"/>
                </a:cubicBezTo>
                <a:cubicBezTo>
                  <a:pt x="21977" y="12777"/>
                  <a:pt x="22144" y="12834"/>
                  <a:pt x="22250" y="12849"/>
                </a:cubicBezTo>
                <a:cubicBezTo>
                  <a:pt x="22334" y="12870"/>
                  <a:pt x="22353" y="12872"/>
                  <a:pt x="22399" y="12898"/>
                </a:cubicBezTo>
                <a:cubicBezTo>
                  <a:pt x="22424" y="12693"/>
                  <a:pt x="22417" y="12531"/>
                  <a:pt x="22374" y="12328"/>
                </a:cubicBezTo>
                <a:cubicBezTo>
                  <a:pt x="22355" y="12583"/>
                  <a:pt x="22362" y="12841"/>
                  <a:pt x="22399" y="13097"/>
                </a:cubicBezTo>
                <a:cubicBezTo>
                  <a:pt x="22418" y="13196"/>
                  <a:pt x="22426" y="13212"/>
                  <a:pt x="22423" y="13271"/>
                </a:cubicBezTo>
              </a:path>
              <a:path w="1092" h="5730">
                <a:moveTo>
                  <a:pt x="21878" y="14064"/>
                </a:moveTo>
                <a:cubicBezTo>
                  <a:pt x="21878" y="14178"/>
                  <a:pt x="21876" y="14316"/>
                  <a:pt x="21803" y="14412"/>
                </a:cubicBezTo>
                <a:cubicBezTo>
                  <a:pt x="21778" y="14428"/>
                  <a:pt x="21754" y="14445"/>
                  <a:pt x="21729" y="14461"/>
                </a:cubicBezTo>
                <a:cubicBezTo>
                  <a:pt x="21762" y="14279"/>
                  <a:pt x="21886" y="14330"/>
                  <a:pt x="22051" y="14362"/>
                </a:cubicBezTo>
                <a:cubicBezTo>
                  <a:pt x="22190" y="14389"/>
                  <a:pt x="22230" y="14417"/>
                  <a:pt x="22250" y="14238"/>
                </a:cubicBezTo>
                <a:cubicBezTo>
                  <a:pt x="22250" y="14088"/>
                  <a:pt x="22250" y="14038"/>
                  <a:pt x="22225" y="13940"/>
                </a:cubicBezTo>
                <a:cubicBezTo>
                  <a:pt x="22217" y="13915"/>
                  <a:pt x="22208" y="13891"/>
                  <a:pt x="22200" y="13866"/>
                </a:cubicBezTo>
                <a:cubicBezTo>
                  <a:pt x="22200" y="14180"/>
                  <a:pt x="22200" y="14494"/>
                  <a:pt x="22200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s will accurately complete a function table with a two-operation r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finished, turn exit ticket into in-box and begin working on tonight’s 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 Table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21:33:05Z</dcterms:created>
  <dc:creator>Brian McGrath</dc:creator>
  <dc:description/>
  <dc:language>en-US</dc:language>
  <cp:lastModifiedBy>deanne elizabeth mcgrath</cp:lastModifiedBy>
  <dcterms:modified xsi:type="dcterms:W3CDTF">2010-09-15T17:48:48Z</dcterms:modified>
  <cp:revision>2</cp:revision>
  <dc:subject/>
  <dc:title>Course 2 Function Tables Day 2  Warm-up:</dc:title>
</cp:coreProperties>
</file>